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2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13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Forum DEFIS SUD Développement et Emploi, le FORUM INTERNATIONAL des Services Essentiels au Sud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move the slid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Comité Consultatif du 6 décembre 2010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89C54-84DD-4777-93D0-3AF52C12509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Espace réservé de l'en-tête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Forum DEFIS SUD Développement et Emploi, le FORUM INTERNATIONAL des Services Essentiels au Sud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7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Comité Consultatif du 6 décembre 2010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8" name="Espace réservé du numéro de diapositive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3183A-E4C1-4481-BBDA-219D7FA9000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Espace réservé de l'en-tête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Forum DEFIS SUD Développement et Emploi, le FORUM INTERNATIONAL des Services Essentiels au Sud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2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Comité Consultatif du 6 décembre 2010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3" name="Espace réservé du numéro de diapositive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1F282-A5AA-4F46-AD38-8EFC58A98D8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Espace réservé de l'en-tête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Forum DEFIS SUD Développement et Emploi, le FORUM INTERNATIONAL des Services Essentiels au Sud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7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Comité Consultatif du 6 décembre 2010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8" name="Espace réservé du numéro de diapositive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B1700-A10E-4FF0-9EB1-325F08FFF19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Espace réservé de l'en-tête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Forum DEFIS SUD Développement et Emploi, le FORUM INTERNATIONAL des Services Essentiels au Sud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2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Comité Consultatif du 6 décembre 2010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3" name="Espace réservé du numéro de diapositive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F8739-D395-4946-8173-638B5AD80F9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Espace réservé de l'en-tête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Forum DEFIS SUD Développement et Emploi, le FORUM INTERNATIONAL des Services Essentiels au Sud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7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Comité Consultatif du 6 décembre 2010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8" name="Espace réservé du numéro de diapositive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4FD63-7DB3-439C-B124-67CF9BC39D3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Espace réservé de l'en-tête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Forum DEFIS SUD Développement et Emploi, le FORUM INTERNATIONAL des Services Essentiels au Sud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2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Comité Consultatif du 6 décembre 2010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3" name="Espace réservé du numéro de diapositive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AC3A6-583E-4223-B8FE-BFF990E4B40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Espace réservé de l'en-tête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Forum DEFIS SUD Développement et Emploi, le FORUM INTERNATIONAL des Services Essentiels au Sud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7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Comité Consultatif du 6 décembre 2010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8" name="Espace réservé du numéro de diapositive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D08E4-6B61-4EA1-B1BA-67F5AE703EB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Espace réservé de l'en-tête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Forum DEFIS SUD Développement et Emploi, le FORUM INTERNATIONAL des Services Essentiels au Sud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2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Comité Consultatif du 6 décembre 2010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3" name="Espace réservé du numéro de diapositive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01E03-27D6-48C8-9E11-F1340DF3862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Espace réservé de l'en-tête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Forum DEFIS SUD Développement et Emploi, le FORUM INTERNATIONAL des Services Essentiels au Sud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7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Comité Consultatif du 6 décembre 2010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8" name="Espace réservé du numéro de diapositive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87416-FE20-4C44-8109-54EE4B15A31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Espace réservé de l'en-tête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Forum DEFIS SUD Développement et Emploi, le FORUM INTERNATIONAL des Services Essentiels au Sud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2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Comité Consultatif du 6 décembre 2010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3" name="Espace réservé du numéro de diapositive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525DD-E880-45B2-B500-5C2BCF654D5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Espace réservé de l'en-tête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Forum DEFIS SUD Développement et Emploi, le FORUM INTERNATIONAL des Services Essentiels au Sud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2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Comité Consultatif du 6 décembre 2010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3" name="Espace réservé du numéro de diapositive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D188F-E387-46CC-B55F-9D70F4A08AC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Espace réservé de l'en-tête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Forum DEFIS SUD Développement et Emploi, le FORUM INTERNATIONAL des Services Essentiels au Sud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7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Comité Consultatif du 6 décembre 2010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8" name="Espace réservé du numéro de diapositive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2D23F-98B4-49F6-8CE8-39B5872D9E1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Espace réservé de l'en-tête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Forum DEFIS SUD Développement et Emploi, le FORUM INTERNATIONAL des Services Essentiels au Sud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2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Comité Consultatif du 6 décembre 2010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3" name="Espace réservé du numéro de diapositive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6F325-AFDC-4692-9869-50077EFB1FE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Espace réservé de l'en-tête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Forum DEFIS SUD Développement et Emploi, le FORUM INTERNATIONAL des Services Essentiels au Sud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7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Comité Consultatif du 6 décembre 2010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8" name="Espace réservé du numéro de diapositive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F011A-F643-40D6-BD5A-31DB3DB32E0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Espace réservé de l'en-tête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Forum DEFIS SUD Développement et Emploi, le FORUM INTERNATIONAL des Services Essentiels au Sud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2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Comité Consultatif du 6 décembre 2010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3" name="Espace réservé du numéro de diapositive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99EEF-2454-4501-AA7A-78C8FB30D1D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Espace réservé de l'en-tête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Forum DEFIS SUD Développement et Emploi, le FORUM INTERNATIONAL des Services Essentiels au Sud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7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Comité Consultatif du 6 décembre 2010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8" name="Espace réservé du numéro de diapositive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8DA21-62FC-405B-99E0-98E040E7DF3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Espace réservé de l'en-tête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Forum DEFIS SUD Développement et Emploi, le FORUM INTERNATIONAL des Services Essentiels au Sud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2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Comité Consultatif du 6 décembre 2010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3" name="Espace réservé du numéro de diapositive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57A2F-39BA-4AA0-9FEC-2BBADD24CDB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Espace réservé de l'en-tête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Forum DEFIS SUD Développement et Emploi, le FORUM INTERNATIONAL des Services Essentiels au Sud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7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Comité Consultatif du 6 décembre 2010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8" name="Espace réservé du numéro de diapositive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83BEA-78EB-47A8-971C-CCE6002F4DA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A44C-7276-46BA-A158-1C6BB02D4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DC59-9925-41DB-B1DA-355DF38D6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A380-900A-4C40-B735-5CD1B27D5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F689-8534-432E-A414-6D1F9CC7C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F9A35-A42F-4C9D-A12B-5902882D2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05C0A-6DE3-4CAC-A687-3469F720C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D44A4-5E39-4302-8766-06B940471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C7E83-0FEC-4662-A036-59EA4C1EC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9B4A4-C878-40FB-B613-AA8E200D2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E77C1-64B7-4E7D-92D7-F9165BA35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E76EE-FEEA-4304-8BCF-3E373B439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2122-AB38-4069-BC43-66FD2D0BB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21210-8BA8-423A-A3D3-4CC0752D3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8A596-010C-41E7-9A1E-74B4273C5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2FC85-4580-4183-A392-AFE04586C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3D732-A499-47A2-94E9-0159086E4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F3360-A728-41AC-A054-9C8BB3E93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C6F5FA-DB52-4B3D-BA88-0E4EE8910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B39B48-EB61-4B1F-8A74-9AE4EB10B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623900-E823-4EA2-949F-DD93F953C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9CDAE5-3EFF-49EB-8589-FB698F4FF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C3EC39-2E91-455E-9C8B-BD1EA1DE7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D9FC-FE0D-4C17-B4A0-EE11E7C83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427A4C-29DB-4FB2-A44A-76281D2FB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EB533F-4DE5-42E1-8491-C910D2177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46DCAD-A64E-48FC-84A0-5B9AD502F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D4C5BD-B34F-491C-8558-BA7A9BAE5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D91D6E-F597-4DCB-B573-DA8F36A0A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9569BE-2AD6-41CF-8788-E14A83398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721870-4B1A-4A4F-BEF7-963EBAF61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35954F-40DA-490C-A087-9FD2AF05F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345A38-E824-41BC-B16C-A98F07509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86E501-BE9B-4418-9612-F3E8D3D5A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A7E9-2E75-44B9-861A-099435588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C55B36-2B60-4ED9-90D5-ADF75B809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62ABB4-2205-4280-B461-982460DBA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44DB4E-B125-40A0-940A-55916CF53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7F53E9-3BBD-4361-A18E-37216C1A1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706319-8B92-48C8-B70B-1209ABE4F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5213B6-CB57-483C-9358-A8EA8A21B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C14EAE-FD02-4CCB-820C-17C3351EA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4E7E4F-5BAB-425B-8136-C2A337755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A31B4F-2674-4737-A198-CB9625201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6C6876-3CB9-43F0-A28A-BC04DA66E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55E4-DC4A-4BF8-B6FA-DD17BF255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07442A-8CF0-4CB7-BE35-23483BA49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7FCC0F-4F58-4681-8C9C-6D518F607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9BAE28-806C-4261-8EDA-5868D179C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7BD7F7-1C57-4E1E-BBA3-559CC7F4B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5A65BA-AE0F-47D0-97AA-DEAEA1561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A96457-161B-4368-8C27-C1D5ED075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B2E6E4-35FF-4F89-9F12-173FBDD1A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0CAF3F-00BD-415B-B58F-691C23D12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684944-F0F1-4C0D-AD7F-0755BA58F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1D6B0C-82C6-415F-A861-0CE5CC41F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DBEA-4AB2-446F-A0AB-B5123090C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793180-6BC5-49AC-A987-01CAD0C65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718138-E46B-4AC8-B6EA-A99590737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A7956C-1D84-442E-B4FD-A60DE1569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9738B9-96F7-4935-881F-2F3C1DAC8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51F1F7-393B-45EE-9C06-E42E54E8A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223DCC-C531-47EE-840A-13D921E51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7E0617-B459-4F44-A6BD-1F3754FF1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FC23F8-DF3E-474F-95AE-B2486274C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4910AB-8372-48A3-BB3B-6BCEB31D0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606875-1A44-4853-9840-6731198E2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9E55-F645-4E71-8A5A-84E28BD6D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31FABA-D339-4477-A0E6-7B992FD9C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FFEBD0-4922-4CFC-9562-E4FC5E1BA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EF024C-12E5-434A-9BC7-D276E7726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678803-1256-450E-B0DB-C06DB9535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02AFBF-AED7-4D69-AAD0-E53570289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1C73D6-AF12-46F8-9A72-86D2B1040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BB5817-4493-4C4E-B7EC-D69701C2C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AE8453-AFB4-4A4F-A1FE-3ECFA074E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4EE686-737C-4844-A141-5C017A17C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292F04-1409-4646-9681-E94908411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E973-58F1-41E4-91CB-AB663120E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894CC1-E36B-46E3-AAF9-DC000671A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FB15D3-B5C5-47ED-8824-366B8D857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4A888C-1EC5-4F12-B056-5F9577458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0E74DA-0DD9-4CBA-823B-368E25DF8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EDE660-3B9E-4A02-AFA7-3C0EB4952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3EFD58-456E-4126-A8C8-911B174C1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8470A2-A4D7-4E58-9C3C-9FA9CA4A4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31DCF2-5995-4704-965B-37815DA84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93DD69-9712-466D-8297-B5BAF5F9F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F1A08E-C172-47FC-A8A3-AE0B87D61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ECA0-3A3E-433F-801C-32033650E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90B4DD-E6AD-43A4-815F-99E221F0F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1CCE9B-FAA0-4FCF-8568-5A12E9F6B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A929DA-7275-440C-9FC6-336ADBA51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2252AD-CCEA-42C2-A76F-37C315913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B7586A-6D12-4DC1-96A6-6AC33F7E1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C8787E-5909-4361-B5DD-B8530DAD3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B4A995-29E6-4C0E-9922-6FB564630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3AE5C-CDE3-43F2-A32B-828B04E53E36}" type="datetime">
              <a:rPr b="0" lang="fr-FR" sz="1400" spc="-1" strike="noStrike">
                <a:solidFill>
                  <a:srgbClr val="464653"/>
                </a:solidFill>
                <a:latin typeface="Gill Sans MT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464653"/>
                </a:solidFill>
                <a:latin typeface="Gill Sans MT"/>
              </a:rPr>
              <a:t>DEFIS SUD Développement et Emploi le FORUM INTERNATIONAL des Services Essentiels au Sud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2E01C-44A3-4D07-8640-1C0DC99A9AE9}" type="slidenum">
              <a:rPr b="0" lang="fr-BE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Connecteur droit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Connecteur droit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Triangle isocè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Rectangle 14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14D47-73D4-49D2-A368-42936C3B1974}" type="datetime">
              <a:rPr b="0" lang="fr-FR" sz="1400" spc="-1" strike="noStrike">
                <a:solidFill>
                  <a:srgbClr val="464653"/>
                </a:solidFill>
                <a:latin typeface="Gill Sans MT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464653"/>
                </a:solidFill>
                <a:latin typeface="Gill Sans MT"/>
              </a:rPr>
              <a:t>DEFIS SUD Développement et Emploi le FORUM INTERNATIONAL des Services Essentiels au Sud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2BAC2-FA89-4FB4-980A-9E418428C40C}" type="slidenum">
              <a:rPr b="0" lang="fr-BE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85743-80E9-4950-AD5D-0A589F6A543B}" type="datetime">
              <a:rPr b="0" lang="fr-FR" sz="1400" spc="-1" strike="noStrike">
                <a:solidFill>
                  <a:srgbClr val="dde9ec"/>
                </a:solidFill>
                <a:latin typeface="Gill Sans MT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dde9ec"/>
                </a:solidFill>
                <a:latin typeface="Gill Sans MT"/>
              </a:rPr>
              <a:t>DEFIS SUD Développement et Emploi le FORUM INTERNATIONAL des Services Essentiels au Sud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C5558-59C8-4ADA-922B-44CD63B22268}" type="slidenum">
              <a:rPr b="0" lang="fr-BE" sz="1400" spc="-1" strike="noStrike">
                <a:solidFill>
                  <a:srgbClr val="dde9ec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Connecteur droit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Connecteur droit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Triangle isocè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Triangle isocèle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B0369-CA1D-4F28-8990-9FCC71138532}" type="datetime">
              <a:rPr b="0" lang="fr-FR" sz="1400" spc="-1" strike="noStrike">
                <a:solidFill>
                  <a:srgbClr val="464653"/>
                </a:solidFill>
                <a:latin typeface="Gill Sans MT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464653"/>
                </a:solidFill>
                <a:latin typeface="Gill Sans MT"/>
              </a:rPr>
              <a:t>DEFIS SUD Développement et Emploi le FORUM INTERNATIONAL des Services Essentiels au Sud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D72DA-63A8-432A-B961-403969D6E02B}" type="slidenum">
              <a:rPr b="0" lang="fr-BE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Connecteur droit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Triangle isocè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03F2B-2D7D-4E8B-8C21-42FA062B3F0A}" type="datetime">
              <a:rPr b="0" lang="fr-FR" sz="1400" spc="-1" strike="noStrike">
                <a:solidFill>
                  <a:srgbClr val="464653"/>
                </a:solidFill>
                <a:latin typeface="Gill Sans MT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464653"/>
                </a:solidFill>
                <a:latin typeface="Gill Sans MT"/>
              </a:rPr>
              <a:t>DEFIS SUD Développement et Emploi le FORUM INTERNATIONAL des Services Essentiels au Sud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889DD-7F44-4D13-A846-AE1074C06CE0}" type="slidenum">
              <a:rPr b="0" lang="fr-BE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Connecteur droit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Connecteur droit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Triangle isocèle 14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66D59-8BEA-4537-8D4C-0873DE9CE03A}" type="datetime">
              <a:rPr b="0" lang="fr-FR" sz="1400" spc="-1" strike="noStrike">
                <a:solidFill>
                  <a:srgbClr val="464653"/>
                </a:solidFill>
                <a:latin typeface="Gill Sans MT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464653"/>
                </a:solidFill>
                <a:latin typeface="Gill Sans MT"/>
              </a:rPr>
              <a:t>DEFIS SUD Développement et Emploi le FORUM INTERNATIONAL des Services Essentiels au Sud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51BBB-9E66-45F2-A795-AC6B19811CF3}" type="slidenum">
              <a:rPr b="0" lang="fr-BE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Connecteur droit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Triangle isocè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Rectangle 14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31985-E1FE-4557-AB40-24DD7E7169D7}" type="datetime">
              <a:rPr b="0" lang="fr-FR" sz="1400" spc="-1" strike="noStrike">
                <a:solidFill>
                  <a:srgbClr val="dde9ec"/>
                </a:solidFill>
                <a:latin typeface="Gill Sans MT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dde9ec"/>
                </a:solidFill>
                <a:latin typeface="Gill Sans MT"/>
              </a:rPr>
              <a:t>DEFIS SUD Développement et Emploi le FORUM INTERNATIONAL des Services Essentiels au Sud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B6A40-E21A-4C05-AE09-3F4D8C99F51C}" type="slidenum">
              <a:rPr b="0" lang="fr-BE" sz="1400" spc="-1" strike="noStrike">
                <a:solidFill>
                  <a:srgbClr val="dde9ec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Connecteur droit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Triangle isocè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Connecteur droit 14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D8A46-5DA8-406C-9B4A-D6AA95C21663}" type="datetime">
              <a:rPr b="0" lang="fr-FR" sz="1400" spc="-1" strike="noStrike">
                <a:solidFill>
                  <a:srgbClr val="464653"/>
                </a:solidFill>
                <a:latin typeface="Gill Sans MT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464653"/>
                </a:solidFill>
                <a:latin typeface="Gill Sans MT"/>
              </a:rPr>
              <a:t>DEFIS SUD Développement et Emploi le FORUM INTERNATIONAL des Services Essentiels au Sud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1B23E-45CC-40F9-8136-6184D2A41C6C}" type="slidenum">
              <a:rPr b="0" lang="fr-BE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10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5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5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hyperlink" Target="mailto:marseille2012@reseauprojection.org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464653"/>
              </a:solidFill>
              <a:latin typeface="Arial"/>
              <a:ea typeface="Arial"/>
            </a:endParaRPr>
          </a:p>
        </p:txBody>
      </p:sp>
      <p:sp>
        <p:nvSpPr>
          <p:cNvPr id="360" name="Espace réservé du numéro de diapositive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8AABD-FB9D-44C4-A0DB-BC929DC1F22A}" type="slidenum">
              <a:rPr b="0" lang="fr-BE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1" name="Rectangle 2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26bc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2" name="Ellipse 11"/>
          <p:cNvSpPr/>
          <p:nvPr/>
        </p:nvSpPr>
        <p:spPr>
          <a:xfrm>
            <a:off x="-181080" y="549360"/>
            <a:ext cx="9506160" cy="934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3" name="Picture 3" descr="C:\Users\Assoprojection JHH\Dropbox\Projection\Eléments graphiques\LOGO PROJ HD.png"/>
          <p:cNvPicPr/>
          <p:nvPr/>
        </p:nvPicPr>
        <p:blipFill>
          <a:blip r:embed="rId1"/>
          <a:stretch/>
        </p:blipFill>
        <p:spPr>
          <a:xfrm>
            <a:off x="3780000" y="836640"/>
            <a:ext cx="1728720" cy="1400040"/>
          </a:xfrm>
          <a:prstGeom prst="rect">
            <a:avLst/>
          </a:prstGeom>
          <a:ln w="0">
            <a:noFill/>
          </a:ln>
        </p:spPr>
      </p:pic>
      <p:sp>
        <p:nvSpPr>
          <p:cNvPr id="364" name="Rectangle 16"/>
          <p:cNvSpPr/>
          <p:nvPr/>
        </p:nvSpPr>
        <p:spPr>
          <a:xfrm>
            <a:off x="1187280" y="4130640"/>
            <a:ext cx="705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ill Sans MT"/>
              </a:rPr>
              <a:t>La contribution des jeunes professionnel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5" name="Espace réservé du contenu 2"/>
          <p:cNvSpPr/>
          <p:nvPr/>
        </p:nvSpPr>
        <p:spPr>
          <a:xfrm>
            <a:off x="1187280" y="2617920"/>
            <a:ext cx="7056720" cy="1295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Gill Sans MT"/>
              </a:rPr>
              <a:t>« D’un monde de bidonvilles à un monde de solutions »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6" name="Picture 1" descr=""/>
          <p:cNvPicPr/>
          <p:nvPr/>
        </p:nvPicPr>
        <p:blipFill>
          <a:blip r:embed="rId2"/>
          <a:stretch/>
        </p:blipFill>
        <p:spPr>
          <a:xfrm>
            <a:off x="7740720" y="1754280"/>
            <a:ext cx="961920" cy="146664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1" descr=""/>
          <p:cNvPicPr/>
          <p:nvPr/>
        </p:nvPicPr>
        <p:blipFill>
          <a:blip r:embed="rId3"/>
          <a:stretch/>
        </p:blipFill>
        <p:spPr>
          <a:xfrm>
            <a:off x="684360" y="1897200"/>
            <a:ext cx="961920" cy="146664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2" descr="C:\Users\Assoprojection JHH\Desktop\projection perso\LOGO FME grand.jpg"/>
          <p:cNvPicPr/>
          <p:nvPr/>
        </p:nvPicPr>
        <p:blipFill>
          <a:blip r:embed="rId4"/>
          <a:stretch/>
        </p:blipFill>
        <p:spPr>
          <a:xfrm>
            <a:off x="4140360" y="4941720"/>
            <a:ext cx="936360" cy="11257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464653"/>
              </a:solidFill>
              <a:latin typeface="Arial"/>
              <a:ea typeface="Arial"/>
            </a:endParaRPr>
          </a:p>
        </p:txBody>
      </p:sp>
      <p:sp>
        <p:nvSpPr>
          <p:cNvPr id="465" name="Espace réservé du numéro de diapositive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9D294-7E60-4006-B1C7-CA6A2E0631BD}" type="slidenum">
              <a:rPr b="0" lang="fr-BE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6" name="Rectangle 2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26bc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7" name="Ellipse 11"/>
          <p:cNvSpPr/>
          <p:nvPr/>
        </p:nvSpPr>
        <p:spPr>
          <a:xfrm>
            <a:off x="-181080" y="549360"/>
            <a:ext cx="9506160" cy="934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8" name="Connecteur droit 13"/>
          <p:cNvSpPr/>
          <p:nvPr/>
        </p:nvSpPr>
        <p:spPr>
          <a:xfrm>
            <a:off x="1332000" y="2060640"/>
            <a:ext cx="7200720" cy="0"/>
          </a:xfrm>
          <a:prstGeom prst="line">
            <a:avLst/>
          </a:prstGeom>
          <a:ln w="936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69" name="Picture 3" descr="C:\Users\Assoprojection JHH\Dropbox\Projection\Eléments graphiques\LOGO PROJ HD.png"/>
          <p:cNvPicPr/>
          <p:nvPr/>
        </p:nvPicPr>
        <p:blipFill>
          <a:blip r:embed="rId1"/>
          <a:stretch/>
        </p:blipFill>
        <p:spPr>
          <a:xfrm>
            <a:off x="6948360" y="765000"/>
            <a:ext cx="1511280" cy="122400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1" descr=""/>
          <p:cNvPicPr/>
          <p:nvPr/>
        </p:nvPicPr>
        <p:blipFill>
          <a:blip r:embed="rId2"/>
          <a:stretch/>
        </p:blipFill>
        <p:spPr>
          <a:xfrm>
            <a:off x="395280" y="765000"/>
            <a:ext cx="961920" cy="1467000"/>
          </a:xfrm>
          <a:prstGeom prst="rect">
            <a:avLst/>
          </a:prstGeom>
          <a:ln w="0">
            <a:noFill/>
          </a:ln>
        </p:spPr>
      </p:pic>
      <p:sp>
        <p:nvSpPr>
          <p:cNvPr id="471" name="Rectangle 12"/>
          <p:cNvSpPr/>
          <p:nvPr/>
        </p:nvSpPr>
        <p:spPr>
          <a:xfrm>
            <a:off x="647640" y="2060640"/>
            <a:ext cx="84963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7f7f7f"/>
                </a:solidFill>
                <a:latin typeface="Gill Sans MT"/>
              </a:rPr>
              <a:t>Une quarantaine de solutions collectées à ce jour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2" name="TextBox 14"/>
          <p:cNvSpPr/>
          <p:nvPr/>
        </p:nvSpPr>
        <p:spPr>
          <a:xfrm>
            <a:off x="4413600" y="638172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Gill Sans MT"/>
              </a:rPr>
              <a:t>Journée d’échanges du 19 janvier 2012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73" name="Picture 2" descr="C:\Users\Assoprojection JHH\Desktop\projection perso\LOGO FME grand.jpg"/>
          <p:cNvPicPr/>
          <p:nvPr/>
        </p:nvPicPr>
        <p:blipFill>
          <a:blip r:embed="rId3"/>
          <a:stretch/>
        </p:blipFill>
        <p:spPr>
          <a:xfrm>
            <a:off x="7931160" y="5732640"/>
            <a:ext cx="817560" cy="982440"/>
          </a:xfrm>
          <a:prstGeom prst="rect">
            <a:avLst/>
          </a:prstGeom>
          <a:ln w="0">
            <a:noFill/>
          </a:ln>
        </p:spPr>
      </p:pic>
      <p:sp>
        <p:nvSpPr>
          <p:cNvPr id="474" name="Espace réservé du contenu 2"/>
          <p:cNvSpPr/>
          <p:nvPr/>
        </p:nvSpPr>
        <p:spPr>
          <a:xfrm>
            <a:off x="1116000" y="692280"/>
            <a:ext cx="56880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D’UN MONDE DE BIDONVILLES À UN MONDE DE SOLUTIO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Gill Sans MT"/>
              </a:rPr>
              <a:t>UNE CONTRIBUTION AU 6</a:t>
            </a:r>
            <a:r>
              <a:rPr b="0" lang="fr-FR" sz="1700" spc="-1" strike="noStrike" baseline="30000">
                <a:solidFill>
                  <a:srgbClr val="000000"/>
                </a:solidFill>
                <a:latin typeface="Gill Sans MT"/>
              </a:rPr>
              <a:t>ÈME</a:t>
            </a:r>
            <a:r>
              <a:rPr b="0" lang="fr-FR" sz="1700" spc="-1" strike="noStrike">
                <a:solidFill>
                  <a:srgbClr val="000000"/>
                </a:solidFill>
                <a:latin typeface="Gill Sans MT"/>
              </a:rPr>
              <a:t> FORUM MONDIAL DE L’EAU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475" name=""/>
          <p:cNvGraphicFramePr/>
          <p:nvPr/>
        </p:nvGraphicFramePr>
        <p:xfrm>
          <a:off x="1116000" y="2565360"/>
          <a:ext cx="7272360" cy="3816360"/>
        </p:xfrm>
        <a:graphic>
          <a:graphicData uri="http://schemas.openxmlformats.org/drawingml/2006/table">
            <a:tbl>
              <a:tblPr/>
              <a:tblGrid>
                <a:gridCol w="206280"/>
                <a:gridCol w="4533840"/>
                <a:gridCol w="1105200"/>
                <a:gridCol w="1427040"/>
              </a:tblGrid>
              <a:tr h="16848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a5a5a5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OLU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a5a5a5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ay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a5a5a5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a5a5a5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169560">
                <a:tc>
                  <a:txBody>
                    <a:bodyPr lIns="6840" rIns="6840" tIns="68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daptation of technical standards for water supply networks in informal settlement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urkina Fas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chniqu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</a:tr>
              <a:tr h="168480">
                <a:tc>
                  <a:txBody>
                    <a:bodyPr lIns="6840" rIns="6840" tIns="68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ènagement des talu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merou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chniqu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</a:tr>
              <a:tr h="169920">
                <a:tc>
                  <a:txBody>
                    <a:bodyPr lIns="6840" rIns="6840" tIns="68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quaforce 5000 - Emergency water production system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kista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rgenc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</a:tr>
              <a:tr h="169560">
                <a:tc>
                  <a:txBody>
                    <a:bodyPr lIns="6840" rIns="6840" tIns="68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cteria counting application for low-cost water monitoring ki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ernation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chniqu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</a:tr>
              <a:tr h="168480">
                <a:tc>
                  <a:txBody>
                    <a:bodyPr lIns="6840" rIns="6840" tIns="68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itizen Intitiative to Enhance Water Governance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nglades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titutionne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</a:tr>
              <a:tr h="169920">
                <a:tc>
                  <a:txBody>
                    <a:bodyPr lIns="6840" rIns="6840" tIns="68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munity-Led Urban Environmental Sanitation plannin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ernation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titutionne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</a:tr>
              <a:tr h="168120">
                <a:tc>
                  <a:txBody>
                    <a:bodyPr lIns="6840" rIns="6840" tIns="68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urage et calibrage des drain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merou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chniqu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</a:tr>
              <a:tr h="169920">
                <a:tc>
                  <a:txBody>
                    <a:bodyPr lIns="6840" rIns="6840" tIns="68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ainage des eaux pluvial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merou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chniqu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6840" rIns="6840" tIns="68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hancing the Role of Water Vendors in the Sustainable and Safe Water Provisioning Servic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igeri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titutionne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lIns="6840" rIns="6840" tIns="68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tension du réseau public de distribution d’eau potable, promotion des branchements particuliers et installation des bornes fontaines payantes communautair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merou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chnique / Institutionne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6840" rIns="6840" tIns="68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mation à la construction, à l’utilisation et à l’entretien des latrines à doubles fosses sèches ventilé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merou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duca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</a:tr>
              <a:tr h="169920">
                <a:tc>
                  <a:txBody>
                    <a:bodyPr lIns="6840" rIns="6840" tIns="68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nder approach in water supplies program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ro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cial/ education/ insti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</a:tr>
              <a:tr h="169920">
                <a:tc>
                  <a:txBody>
                    <a:bodyPr lIns="6840" rIns="6840" tIns="68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overnmental water and Sanitation strategies in Slum Area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ra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titutionnell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</a:tr>
              <a:tr h="307800">
                <a:tc>
                  <a:txBody>
                    <a:bodyPr lIns="6840" rIns="6840" tIns="68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roving drinking water access in peri-urban areas and implementation of a local water servic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ro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érationne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</a:tr>
              <a:tr h="169920">
                <a:tc>
                  <a:txBody>
                    <a:bodyPr lIns="6840" rIns="6840" tIns="68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clusion of Low Income Urban Community for Improved Water Supply Faciliti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ri Lank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tiutionnel-Financièr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</a:tr>
              <a:tr h="169920">
                <a:tc>
                  <a:txBody>
                    <a:bodyPr lIns="6840" rIns="6840" tIns="68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egrated program for cholera’s elimination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 R of Cong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chnique / santé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</a:tr>
              <a:tr h="168120">
                <a:tc>
                  <a:txBody>
                    <a:bodyPr lIns="6840" rIns="6840" tIns="68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it pratique de tarification de l'eau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ernation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chnique -Financièr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</a:tr>
              <a:tr h="169920">
                <a:tc>
                  <a:txBody>
                    <a:bodyPr lIns="6840" rIns="6840" tIns="68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mites Dl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it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titutionne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464653"/>
              </a:solidFill>
              <a:latin typeface="Arial"/>
              <a:ea typeface="Arial"/>
            </a:endParaRPr>
          </a:p>
        </p:txBody>
      </p:sp>
      <p:sp>
        <p:nvSpPr>
          <p:cNvPr id="477" name="Espace réservé du numéro de diapositive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C23F4-085D-4B5A-B70C-9E7D0FA4CD51}" type="slidenum">
              <a:rPr b="0" lang="fr-BE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8" name="Rectangle 2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26bc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9" name="Ellipse 11"/>
          <p:cNvSpPr/>
          <p:nvPr/>
        </p:nvSpPr>
        <p:spPr>
          <a:xfrm>
            <a:off x="-181080" y="549360"/>
            <a:ext cx="9506160" cy="934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0" name="Connecteur droit 13"/>
          <p:cNvSpPr/>
          <p:nvPr/>
        </p:nvSpPr>
        <p:spPr>
          <a:xfrm>
            <a:off x="1332000" y="1989000"/>
            <a:ext cx="7200720" cy="0"/>
          </a:xfrm>
          <a:prstGeom prst="line">
            <a:avLst/>
          </a:prstGeom>
          <a:ln w="936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81" name="Picture 3" descr="C:\Users\Assoprojection JHH\Dropbox\Projection\Eléments graphiques\LOGO PROJ HD.png"/>
          <p:cNvPicPr/>
          <p:nvPr/>
        </p:nvPicPr>
        <p:blipFill>
          <a:blip r:embed="rId1"/>
          <a:stretch/>
        </p:blipFill>
        <p:spPr>
          <a:xfrm>
            <a:off x="7020000" y="692280"/>
            <a:ext cx="1439640" cy="116676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1" descr=""/>
          <p:cNvPicPr/>
          <p:nvPr/>
        </p:nvPicPr>
        <p:blipFill>
          <a:blip r:embed="rId2"/>
          <a:stretch/>
        </p:blipFill>
        <p:spPr>
          <a:xfrm>
            <a:off x="395280" y="765000"/>
            <a:ext cx="961920" cy="1467000"/>
          </a:xfrm>
          <a:prstGeom prst="rect">
            <a:avLst/>
          </a:prstGeom>
          <a:ln w="0">
            <a:noFill/>
          </a:ln>
        </p:spPr>
      </p:pic>
      <p:sp>
        <p:nvSpPr>
          <p:cNvPr id="483" name="TextBox 14"/>
          <p:cNvSpPr/>
          <p:nvPr/>
        </p:nvSpPr>
        <p:spPr>
          <a:xfrm>
            <a:off x="4413600" y="638172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Gill Sans MT"/>
              </a:rPr>
              <a:t>Journée d’échanges du 19 janvier 2012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84" name="Picture 2" descr="C:\Users\Assoprojection JHH\Desktop\projection perso\LOGO FME grand.jpg"/>
          <p:cNvPicPr/>
          <p:nvPr/>
        </p:nvPicPr>
        <p:blipFill>
          <a:blip r:embed="rId3"/>
          <a:stretch/>
        </p:blipFill>
        <p:spPr>
          <a:xfrm>
            <a:off x="7931160" y="5732640"/>
            <a:ext cx="817560" cy="982440"/>
          </a:xfrm>
          <a:prstGeom prst="rect">
            <a:avLst/>
          </a:prstGeom>
          <a:ln w="0">
            <a:noFill/>
          </a:ln>
        </p:spPr>
      </p:pic>
      <p:sp>
        <p:nvSpPr>
          <p:cNvPr id="485" name="Espace réservé du contenu 2"/>
          <p:cNvSpPr/>
          <p:nvPr/>
        </p:nvSpPr>
        <p:spPr>
          <a:xfrm>
            <a:off x="1116000" y="692280"/>
            <a:ext cx="56880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D’UN MONDE DE BIDONVILLES À UN MONDE DE SOLUTIO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Gill Sans MT"/>
              </a:rPr>
              <a:t>UNE CONTRIBUTION AU 6</a:t>
            </a:r>
            <a:r>
              <a:rPr b="0" lang="fr-FR" sz="1700" spc="-1" strike="noStrike" baseline="30000">
                <a:solidFill>
                  <a:srgbClr val="000000"/>
                </a:solidFill>
                <a:latin typeface="Gill Sans MT"/>
              </a:rPr>
              <a:t>ÈME</a:t>
            </a:r>
            <a:r>
              <a:rPr b="0" lang="fr-FR" sz="1700" spc="-1" strike="noStrike">
                <a:solidFill>
                  <a:srgbClr val="000000"/>
                </a:solidFill>
                <a:latin typeface="Gill Sans MT"/>
              </a:rPr>
              <a:t> FORUM MONDIAL DE L’EAU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486" name=""/>
          <p:cNvGraphicFramePr/>
          <p:nvPr/>
        </p:nvGraphicFramePr>
        <p:xfrm>
          <a:off x="1332000" y="2060640"/>
          <a:ext cx="6480000" cy="4321080"/>
        </p:xfrm>
        <a:graphic>
          <a:graphicData uri="http://schemas.openxmlformats.org/drawingml/2006/table">
            <a:tbl>
              <a:tblPr/>
              <a:tblGrid>
                <a:gridCol w="183960"/>
                <a:gridCol w="4040280"/>
                <a:gridCol w="984240"/>
                <a:gridCol w="1271520"/>
              </a:tblGrid>
              <a:tr h="14436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OLU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ay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f7f7f"/>
                    </a:solidFill>
                  </a:tcPr>
                </a:tc>
              </a:tr>
              <a:tr h="146160">
                <a:tc>
                  <a:txBody>
                    <a:bodyPr lIns="6840" rIns="6840" tIns="68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>
                      <a:noFill/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trines à doubles fosses sèches ventilé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>
                      <a:noFill/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merou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>
                      <a:noFill/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chniqu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>
                      <a:noFill/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lIns="6840" rIns="6840" tIns="68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sterplan design and institutional strenghtening for water supply and sanitation improvement in  peri-urban area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nam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chnique / financier / Ins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</a:tr>
              <a:tr h="144720">
                <a:tc>
                  <a:txBody>
                    <a:bodyPr lIns="6840" rIns="6840" tIns="68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se en place d’un dispositif de gestion pérenne des bornes fontaines payant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merou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chniqu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</a:tr>
              <a:tr h="145800">
                <a:tc>
                  <a:txBody>
                    <a:bodyPr lIns="6840" rIns="6840" tIns="68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bile water payments in Urban Afric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friqu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nancière/techniqu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6840" rIns="6840" tIns="68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ultistakeholders financing of the connection of informal settlements to basic waterservic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ro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titutionnel/ Educa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</a:tr>
              <a:tr h="146160">
                <a:tc>
                  <a:txBody>
                    <a:bodyPr lIns="6840" rIns="6840" tIns="68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en channel diverting wastewater from Spring in slum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it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chniqu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</a:tr>
              <a:tr h="144360">
                <a:tc>
                  <a:txBody>
                    <a:bodyPr lIns="6840" rIns="6840" tIns="68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epoo bag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eny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chniqu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6840" rIns="6840" tIns="68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duction et mise à la disposition des ménages des récipients adaptés pour la conservation et manipulation de l’eau de boisson dans les logement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merou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chniqu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6840" rIns="6840" tIns="68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motion of Rainwater in Coastal Urban in Bangladesh for Safe Water Solution in Light of Climate Change and Adapta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nglades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chniqu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</a:tr>
              <a:tr h="144360">
                <a:tc>
                  <a:txBody>
                    <a:bodyPr lIns="6840" rIns="6840" tIns="68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-poor action in Medeli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lombi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nancière/techniqu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</a:tr>
              <a:tr h="144360">
                <a:tc>
                  <a:txBody>
                    <a:bodyPr lIns="6840" rIns="6840" tIns="68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viding Pro Poor Water Services in Urban Areas through Multi Partnership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hilippin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titutionnel/ financie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</a:tr>
              <a:tr h="146160">
                <a:tc>
                  <a:txBody>
                    <a:bodyPr lIns="6840" rIns="6840" tIns="68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viding the urban poor with ecological toilets through revolving loan fund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imbabwe, Tanzani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chnique-Financièr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</a:tr>
              <a:tr h="144360">
                <a:tc>
                  <a:txBody>
                    <a:bodyPr lIns="6840" rIns="6840" tIns="68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vision of water and sanitation services to the urban poor in Bhubaneswa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d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titutionne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</a:tr>
              <a:tr h="144720">
                <a:tc>
                  <a:txBody>
                    <a:bodyPr lIns="6840" rIns="6840" tIns="68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aching the poor- Slum networking in Ahmedaba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d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titutionne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</a:tr>
              <a:tr h="144360">
                <a:tc>
                  <a:txBody>
                    <a:bodyPr lIns="6840" rIns="6840" tIns="68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lum mappin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ép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chniqu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</a:tr>
              <a:tr h="146160">
                <a:tc>
                  <a:txBody>
                    <a:bodyPr lIns="6840" rIns="6840" tIns="68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mall-piped sewer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ernation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chniqu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</a:tr>
              <a:tr h="144360">
                <a:tc>
                  <a:txBody>
                    <a:bodyPr lIns="6840" rIns="6840" tIns="68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lid waste management for cleaner water down stream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gand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chniqu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</a:tr>
              <a:tr h="144360">
                <a:tc>
                  <a:txBody>
                    <a:bodyPr lIns="6840" rIns="6840" tIns="68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op the persistence of waterborne diseases and the economic recover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g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chnique/ santé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6840" rIns="6840" tIns="68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y for access to water and sanitation in the informal settlements : the delegated master operator mode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eny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itutionne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</a:tr>
              <a:tr h="144720">
                <a:tc>
                  <a:txBody>
                    <a:bodyPr lIns="6840" rIns="6840" tIns="68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y for waste reduction, job creation and income generation in the slums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urkina Fas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chnique / financier / Ins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</a:tr>
              <a:tr h="144360">
                <a:tc>
                  <a:txBody>
                    <a:bodyPr lIns="6840" rIns="6840" tIns="68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stème communautaire semi-collectif d’assainissemen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merou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chniqu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</a:tr>
              <a:tr h="144360">
                <a:tc>
                  <a:txBody>
                    <a:bodyPr lIns="6840" rIns="6840" tIns="68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Implementation of Successful Social Programmes in the Provision of Water Servici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entin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titutionne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</a:tr>
              <a:tr h="144360">
                <a:tc>
                  <a:txBody>
                    <a:bodyPr lIns="6840" rIns="6840" tIns="68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isex Urin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eny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chniqu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</a:tr>
              <a:tr h="146160">
                <a:tc>
                  <a:txBody>
                    <a:bodyPr lIns="6840" rIns="6840" tIns="68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er Group Network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d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titutionnelle/ tec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6840" marR="6840">
                    <a:lnL w="2880">
                      <a:solidFill>
                        <a:srgbClr val="a5a5a5"/>
                      </a:solidFill>
                    </a:lnL>
                    <a:lnR w="2880">
                      <a:solidFill>
                        <a:srgbClr val="a5a5a5"/>
                      </a:solidFill>
                    </a:lnR>
                    <a:lnT w="2880">
                      <a:solidFill>
                        <a:srgbClr val="a5a5a5"/>
                      </a:solidFill>
                    </a:lnT>
                    <a:lnB w="2880">
                      <a:solidFill>
                        <a:srgbClr val="a5a5a5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464653"/>
              </a:solidFill>
              <a:latin typeface="Arial"/>
              <a:ea typeface="Arial"/>
            </a:endParaRPr>
          </a:p>
        </p:txBody>
      </p:sp>
      <p:sp>
        <p:nvSpPr>
          <p:cNvPr id="488" name="Espace réservé du numéro de diapositive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1E93B-9A0E-4DFA-9743-DD522D39A152}" type="slidenum">
              <a:rPr b="0" lang="fr-BE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9" name="Rectangle 2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26bc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0" name="Ellipse 11"/>
          <p:cNvSpPr/>
          <p:nvPr/>
        </p:nvSpPr>
        <p:spPr>
          <a:xfrm>
            <a:off x="-181080" y="549360"/>
            <a:ext cx="9506160" cy="934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1" name="Connecteur droit 13"/>
          <p:cNvSpPr/>
          <p:nvPr/>
        </p:nvSpPr>
        <p:spPr>
          <a:xfrm>
            <a:off x="1476360" y="2276640"/>
            <a:ext cx="7199280" cy="0"/>
          </a:xfrm>
          <a:prstGeom prst="line">
            <a:avLst/>
          </a:prstGeom>
          <a:ln w="936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92" name="Picture 3" descr="C:\Users\Assoprojection JHH\Dropbox\Projection\Eléments graphiques\LOGO PROJ HD.png"/>
          <p:cNvPicPr/>
          <p:nvPr/>
        </p:nvPicPr>
        <p:blipFill>
          <a:blip r:embed="rId1"/>
          <a:stretch/>
        </p:blipFill>
        <p:spPr>
          <a:xfrm>
            <a:off x="6948360" y="809640"/>
            <a:ext cx="1727280" cy="139860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1" descr=""/>
          <p:cNvPicPr/>
          <p:nvPr/>
        </p:nvPicPr>
        <p:blipFill>
          <a:blip r:embed="rId2"/>
          <a:stretch/>
        </p:blipFill>
        <p:spPr>
          <a:xfrm>
            <a:off x="395280" y="981000"/>
            <a:ext cx="961920" cy="1467000"/>
          </a:xfrm>
          <a:prstGeom prst="rect">
            <a:avLst/>
          </a:prstGeom>
          <a:ln w="0">
            <a:noFill/>
          </a:ln>
        </p:spPr>
      </p:pic>
      <p:sp>
        <p:nvSpPr>
          <p:cNvPr id="494" name="Rectangle 12"/>
          <p:cNvSpPr/>
          <p:nvPr/>
        </p:nvSpPr>
        <p:spPr>
          <a:xfrm>
            <a:off x="755640" y="2338560"/>
            <a:ext cx="7993080" cy="36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7f7f7f"/>
                </a:solidFill>
                <a:latin typeface="Gill Sans MT"/>
              </a:rPr>
              <a:t>Conception générale de l’exposi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ill Sans MT"/>
              </a:rPr>
              <a:t>Sur un espace de 200 m² d’exposition au sein du « Village des solutions »,  il est prévu une visite en 3 temps :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Gill Sans MT"/>
              </a:rPr>
              <a:t>Exposition du contexte</a:t>
            </a:r>
            <a:r>
              <a:rPr b="0" lang="fr-FR" sz="2000" spc="-1" strike="noStrike">
                <a:solidFill>
                  <a:srgbClr val="000000"/>
                </a:solidFill>
                <a:latin typeface="Gill Sans MT"/>
              </a:rPr>
              <a:t> : visite classique avec panneaux d’information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Gill Sans MT"/>
              </a:rPr>
              <a:t>Exposition des solutions</a:t>
            </a:r>
            <a:r>
              <a:rPr b="0" lang="fr-FR" sz="2000" spc="-1" strike="noStrike">
                <a:solidFill>
                  <a:srgbClr val="000000"/>
                </a:solidFill>
                <a:latin typeface="Gill Sans MT"/>
              </a:rPr>
              <a:t> : immersion au sein d’habitats précaires et mise en situation des solution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Gill Sans MT"/>
              </a:rPr>
              <a:t>Espace de conférences et de débats</a:t>
            </a:r>
            <a:r>
              <a:rPr b="0" lang="fr-FR" sz="2000" spc="-1" strike="noStrike">
                <a:solidFill>
                  <a:srgbClr val="000000"/>
                </a:solidFill>
                <a:latin typeface="Gill Sans MT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5" name="TextBox 14"/>
          <p:cNvSpPr/>
          <p:nvPr/>
        </p:nvSpPr>
        <p:spPr>
          <a:xfrm>
            <a:off x="4413600" y="638172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Gill Sans MT"/>
              </a:rPr>
              <a:t>Journée d’échanges du 19 janvier 2012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96" name="Picture 2" descr="C:\Users\Assoprojection JHH\Desktop\projection perso\LOGO FME grand.jpg"/>
          <p:cNvPicPr/>
          <p:nvPr/>
        </p:nvPicPr>
        <p:blipFill>
          <a:blip r:embed="rId3"/>
          <a:stretch/>
        </p:blipFill>
        <p:spPr>
          <a:xfrm>
            <a:off x="7931160" y="5732640"/>
            <a:ext cx="817560" cy="982440"/>
          </a:xfrm>
          <a:prstGeom prst="rect">
            <a:avLst/>
          </a:prstGeom>
          <a:ln w="0">
            <a:noFill/>
          </a:ln>
        </p:spPr>
      </p:pic>
      <p:sp>
        <p:nvSpPr>
          <p:cNvPr id="497" name="Espace réservé du contenu 2"/>
          <p:cNvSpPr/>
          <p:nvPr/>
        </p:nvSpPr>
        <p:spPr>
          <a:xfrm>
            <a:off x="1116000" y="1125360"/>
            <a:ext cx="568800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D’UN MONDE DE BIDONVILLES À UN MONDE DE SOLUTIO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Gill Sans MT"/>
              </a:rPr>
              <a:t>UNE CONTRIBUTION AU 6</a:t>
            </a:r>
            <a:r>
              <a:rPr b="0" lang="fr-FR" sz="1700" spc="-1" strike="noStrike" baseline="30000">
                <a:solidFill>
                  <a:srgbClr val="000000"/>
                </a:solidFill>
                <a:latin typeface="Gill Sans MT"/>
              </a:rPr>
              <a:t>ÈME</a:t>
            </a:r>
            <a:r>
              <a:rPr b="0" lang="fr-FR" sz="1700" spc="-1" strike="noStrike">
                <a:solidFill>
                  <a:srgbClr val="000000"/>
                </a:solidFill>
                <a:latin typeface="Gill Sans MT"/>
              </a:rPr>
              <a:t> FORUM MONDIAL DE L’EAU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8" name="AutoShape 2"/>
          <p:cNvSpPr/>
          <p:nvPr/>
        </p:nvSpPr>
        <p:spPr>
          <a:xfrm>
            <a:off x="155520" y="-1919160"/>
            <a:ext cx="601020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9" name="AutoShape 4"/>
          <p:cNvSpPr/>
          <p:nvPr/>
        </p:nvSpPr>
        <p:spPr>
          <a:xfrm>
            <a:off x="155520" y="-1919160"/>
            <a:ext cx="601020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0" name="AutoShape 6"/>
          <p:cNvSpPr/>
          <p:nvPr/>
        </p:nvSpPr>
        <p:spPr>
          <a:xfrm>
            <a:off x="155520" y="-1919160"/>
            <a:ext cx="601020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464653"/>
              </a:solidFill>
              <a:latin typeface="Arial"/>
              <a:ea typeface="Arial"/>
            </a:endParaRPr>
          </a:p>
        </p:txBody>
      </p:sp>
      <p:sp>
        <p:nvSpPr>
          <p:cNvPr id="502" name="Espace réservé du numéro de diapositive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56516-DE2D-4F23-8A90-699500134F0C}" type="slidenum">
              <a:rPr b="0" lang="fr-BE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3" name="Rectangle 2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26bc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4" name="Ellipse 11"/>
          <p:cNvSpPr/>
          <p:nvPr/>
        </p:nvSpPr>
        <p:spPr>
          <a:xfrm>
            <a:off x="-181080" y="549360"/>
            <a:ext cx="9506160" cy="934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5" name="Connecteur droit 13"/>
          <p:cNvSpPr/>
          <p:nvPr/>
        </p:nvSpPr>
        <p:spPr>
          <a:xfrm>
            <a:off x="1476360" y="2276640"/>
            <a:ext cx="7199280" cy="0"/>
          </a:xfrm>
          <a:prstGeom prst="line">
            <a:avLst/>
          </a:prstGeom>
          <a:ln w="936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06" name="Picture 3" descr="C:\Users\Assoprojection JHH\Dropbox\Projection\Eléments graphiques\LOGO PROJ HD.png"/>
          <p:cNvPicPr/>
          <p:nvPr/>
        </p:nvPicPr>
        <p:blipFill>
          <a:blip r:embed="rId1"/>
          <a:stretch/>
        </p:blipFill>
        <p:spPr>
          <a:xfrm>
            <a:off x="6948360" y="809640"/>
            <a:ext cx="1727280" cy="139860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1" descr=""/>
          <p:cNvPicPr/>
          <p:nvPr/>
        </p:nvPicPr>
        <p:blipFill>
          <a:blip r:embed="rId2"/>
          <a:stretch/>
        </p:blipFill>
        <p:spPr>
          <a:xfrm>
            <a:off x="395280" y="981000"/>
            <a:ext cx="961920" cy="1467000"/>
          </a:xfrm>
          <a:prstGeom prst="rect">
            <a:avLst/>
          </a:prstGeom>
          <a:ln w="0">
            <a:noFill/>
          </a:ln>
        </p:spPr>
      </p:pic>
      <p:sp>
        <p:nvSpPr>
          <p:cNvPr id="508" name="Espace réservé du contenu 2"/>
          <p:cNvSpPr/>
          <p:nvPr/>
        </p:nvSpPr>
        <p:spPr>
          <a:xfrm>
            <a:off x="1116000" y="1125360"/>
            <a:ext cx="568800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D’UN MONDE DE BIDONVILLES À UN MONDE DE SOLUTIO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Gill Sans MT"/>
              </a:rPr>
              <a:t>UNE CONTRIBUTION AU 6</a:t>
            </a:r>
            <a:r>
              <a:rPr b="0" lang="fr-FR" sz="1700" spc="-1" strike="noStrike" baseline="30000">
                <a:solidFill>
                  <a:srgbClr val="000000"/>
                </a:solidFill>
                <a:latin typeface="Gill Sans MT"/>
              </a:rPr>
              <a:t>ÈME</a:t>
            </a:r>
            <a:r>
              <a:rPr b="0" lang="fr-FR" sz="1700" spc="-1" strike="noStrike">
                <a:solidFill>
                  <a:srgbClr val="000000"/>
                </a:solidFill>
                <a:latin typeface="Gill Sans MT"/>
              </a:rPr>
              <a:t> FORUM MONDIAL DE L’EAU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9" name="AutoShape 2"/>
          <p:cNvSpPr/>
          <p:nvPr/>
        </p:nvSpPr>
        <p:spPr>
          <a:xfrm>
            <a:off x="155520" y="-1919160"/>
            <a:ext cx="601020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0" name="AutoShape 4"/>
          <p:cNvSpPr/>
          <p:nvPr/>
        </p:nvSpPr>
        <p:spPr>
          <a:xfrm>
            <a:off x="155520" y="-1919160"/>
            <a:ext cx="601020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1" name="AutoShape 6"/>
          <p:cNvSpPr/>
          <p:nvPr/>
        </p:nvSpPr>
        <p:spPr>
          <a:xfrm>
            <a:off x="155520" y="-1919160"/>
            <a:ext cx="601020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12" name="Picture 2" descr=""/>
          <p:cNvPicPr/>
          <p:nvPr/>
        </p:nvPicPr>
        <p:blipFill>
          <a:blip r:embed="rId3"/>
          <a:stretch/>
        </p:blipFill>
        <p:spPr>
          <a:xfrm>
            <a:off x="900000" y="2349360"/>
            <a:ext cx="7898040" cy="424836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2" descr="C:\Users\Assoprojection JHH\Desktop\projection perso\LOGO FME grand.jpg"/>
          <p:cNvPicPr/>
          <p:nvPr/>
        </p:nvPicPr>
        <p:blipFill>
          <a:blip r:embed="rId4"/>
          <a:stretch/>
        </p:blipFill>
        <p:spPr>
          <a:xfrm>
            <a:off x="7931160" y="5732640"/>
            <a:ext cx="817560" cy="982440"/>
          </a:xfrm>
          <a:prstGeom prst="rect">
            <a:avLst/>
          </a:prstGeom>
          <a:ln w="0">
            <a:noFill/>
          </a:ln>
        </p:spPr>
      </p:pic>
      <p:sp>
        <p:nvSpPr>
          <p:cNvPr id="514" name="TextBox 14"/>
          <p:cNvSpPr/>
          <p:nvPr/>
        </p:nvSpPr>
        <p:spPr>
          <a:xfrm>
            <a:off x="4413600" y="638172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Gill Sans MT"/>
              </a:rPr>
              <a:t>Journée d’échanges du 19 janvier 2012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Picture 2" descr=""/>
          <p:cNvPicPr/>
          <p:nvPr/>
        </p:nvPicPr>
        <p:blipFill>
          <a:blip r:embed="rId1"/>
          <a:stretch/>
        </p:blipFill>
        <p:spPr>
          <a:xfrm>
            <a:off x="5508720" y="2637000"/>
            <a:ext cx="3193920" cy="3520800"/>
          </a:xfrm>
          <a:prstGeom prst="rect">
            <a:avLst/>
          </a:prstGeom>
          <a:ln w="0">
            <a:noFill/>
          </a:ln>
        </p:spPr>
      </p:pic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464653"/>
              </a:solidFill>
              <a:latin typeface="Arial"/>
              <a:ea typeface="Arial"/>
            </a:endParaRPr>
          </a:p>
        </p:txBody>
      </p:sp>
      <p:sp>
        <p:nvSpPr>
          <p:cNvPr id="517" name="Espace réservé du numéro de diapositive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7E2F9-B8AE-41A0-8E85-05F4419D8CDF}" type="slidenum">
              <a:rPr b="0" lang="fr-BE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26bc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9" name="Ellipse 11"/>
          <p:cNvSpPr/>
          <p:nvPr/>
        </p:nvSpPr>
        <p:spPr>
          <a:xfrm>
            <a:off x="-181080" y="549360"/>
            <a:ext cx="9506160" cy="934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0" name="Connecteur droit 13"/>
          <p:cNvSpPr/>
          <p:nvPr/>
        </p:nvSpPr>
        <p:spPr>
          <a:xfrm>
            <a:off x="1476360" y="2276640"/>
            <a:ext cx="7199280" cy="0"/>
          </a:xfrm>
          <a:prstGeom prst="line">
            <a:avLst/>
          </a:prstGeom>
          <a:ln w="936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21" name="Picture 3" descr="C:\Users\Assoprojection JHH\Dropbox\Projection\Eléments graphiques\LOGO PROJ HD.png"/>
          <p:cNvPicPr/>
          <p:nvPr/>
        </p:nvPicPr>
        <p:blipFill>
          <a:blip r:embed="rId2"/>
          <a:stretch/>
        </p:blipFill>
        <p:spPr>
          <a:xfrm>
            <a:off x="6948360" y="809640"/>
            <a:ext cx="1727280" cy="139860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1" descr=""/>
          <p:cNvPicPr/>
          <p:nvPr/>
        </p:nvPicPr>
        <p:blipFill>
          <a:blip r:embed="rId3"/>
          <a:stretch/>
        </p:blipFill>
        <p:spPr>
          <a:xfrm>
            <a:off x="395280" y="981000"/>
            <a:ext cx="961920" cy="1467000"/>
          </a:xfrm>
          <a:prstGeom prst="rect">
            <a:avLst/>
          </a:prstGeom>
          <a:ln w="0">
            <a:noFill/>
          </a:ln>
        </p:spPr>
      </p:pic>
      <p:sp>
        <p:nvSpPr>
          <p:cNvPr id="523" name="Rectangle 12"/>
          <p:cNvSpPr/>
          <p:nvPr/>
        </p:nvSpPr>
        <p:spPr>
          <a:xfrm>
            <a:off x="755640" y="2338560"/>
            <a:ext cx="6048360" cy="42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7f7f7f"/>
                </a:solidFill>
                <a:latin typeface="Gill Sans MT"/>
              </a:rPr>
              <a:t>Zone 1 – Exposition du context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fr-FR" sz="2200" spc="-1" strike="noStrike">
                <a:solidFill>
                  <a:srgbClr val="000000"/>
                </a:solidFill>
                <a:latin typeface="Gill Sans MT"/>
              </a:rPr>
              <a:t>Définitions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fr-FR" sz="2200" spc="-1" strike="noStrike">
                <a:solidFill>
                  <a:srgbClr val="000000"/>
                </a:solidFill>
                <a:latin typeface="Gill Sans MT"/>
              </a:rPr>
              <a:t>Ampleur du phénomène dans le mond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fr-FR" sz="2200" spc="-1" strike="noStrike">
                <a:solidFill>
                  <a:srgbClr val="000000"/>
                </a:solidFill>
                <a:latin typeface="Gill Sans MT"/>
              </a:rPr>
              <a:t>Causes et formation des bidonville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fr-FR" sz="2200" spc="-1" strike="noStrike">
                <a:solidFill>
                  <a:srgbClr val="000000"/>
                </a:solidFill>
                <a:latin typeface="Gill Sans MT"/>
              </a:rPr>
              <a:t>Les lieux d’implantation et le foncier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fr-FR" sz="2200" spc="-1" strike="noStrike">
                <a:solidFill>
                  <a:srgbClr val="000000"/>
                </a:solidFill>
                <a:latin typeface="Gill Sans MT"/>
              </a:rPr>
              <a:t>La vie dans les bidonville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fr-FR" sz="2200" spc="-1" strike="noStrike">
                <a:solidFill>
                  <a:srgbClr val="000000"/>
                </a:solidFill>
                <a:latin typeface="Gill Sans MT"/>
              </a:rPr>
              <a:t>L’évolution du bidonville, acteurs et types d’intervention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fr-FR" sz="2200" spc="-1" strike="noStrike">
                <a:solidFill>
                  <a:srgbClr val="000000"/>
                </a:solidFill>
                <a:latin typeface="Gill Sans MT"/>
              </a:rPr>
              <a:t>L’enjeu de l’accès à l’eau et à l’assainissement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4" name="TextBox 14"/>
          <p:cNvSpPr/>
          <p:nvPr/>
        </p:nvSpPr>
        <p:spPr>
          <a:xfrm>
            <a:off x="4413600" y="638172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Gill Sans MT"/>
              </a:rPr>
              <a:t>Journée d’échanges du 19 janvier 2012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25" name="Picture 2" descr="C:\Users\Assoprojection JHH\Desktop\projection perso\LOGO FME grand.jpg"/>
          <p:cNvPicPr/>
          <p:nvPr/>
        </p:nvPicPr>
        <p:blipFill>
          <a:blip r:embed="rId4"/>
          <a:stretch/>
        </p:blipFill>
        <p:spPr>
          <a:xfrm>
            <a:off x="7931160" y="5732640"/>
            <a:ext cx="817560" cy="982440"/>
          </a:xfrm>
          <a:prstGeom prst="rect">
            <a:avLst/>
          </a:prstGeom>
          <a:ln w="0">
            <a:noFill/>
          </a:ln>
        </p:spPr>
      </p:pic>
      <p:sp>
        <p:nvSpPr>
          <p:cNvPr id="526" name="Espace réservé du contenu 2"/>
          <p:cNvSpPr/>
          <p:nvPr/>
        </p:nvSpPr>
        <p:spPr>
          <a:xfrm>
            <a:off x="1116000" y="1125360"/>
            <a:ext cx="568800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D’UN MONDE DE BIDONVILLES À UN MONDE DE SOLUTIO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Gill Sans MT"/>
              </a:rPr>
              <a:t>UNE CONTRIBUTION AU 6</a:t>
            </a:r>
            <a:r>
              <a:rPr b="0" lang="fr-FR" sz="1700" spc="-1" strike="noStrike" baseline="30000">
                <a:solidFill>
                  <a:srgbClr val="000000"/>
                </a:solidFill>
                <a:latin typeface="Gill Sans MT"/>
              </a:rPr>
              <a:t>ÈME</a:t>
            </a:r>
            <a:r>
              <a:rPr b="0" lang="fr-FR" sz="1700" spc="-1" strike="noStrike">
                <a:solidFill>
                  <a:srgbClr val="000000"/>
                </a:solidFill>
                <a:latin typeface="Gill Sans MT"/>
              </a:rPr>
              <a:t> FORUM MONDIAL DE L’EAU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464653"/>
              </a:solidFill>
              <a:latin typeface="Arial"/>
              <a:ea typeface="Arial"/>
            </a:endParaRPr>
          </a:p>
        </p:txBody>
      </p:sp>
      <p:sp>
        <p:nvSpPr>
          <p:cNvPr id="528" name="Espace réservé du numéro de diapositive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CDBEF-8063-4BA0-8EE2-CC1ED3EEE724}" type="slidenum">
              <a:rPr b="0" lang="fr-BE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9" name="Rectangle 2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26bc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0" name="Ellipse 11"/>
          <p:cNvSpPr/>
          <p:nvPr/>
        </p:nvSpPr>
        <p:spPr>
          <a:xfrm>
            <a:off x="-181080" y="549360"/>
            <a:ext cx="9506160" cy="934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1" name="Connecteur droit 13"/>
          <p:cNvSpPr/>
          <p:nvPr/>
        </p:nvSpPr>
        <p:spPr>
          <a:xfrm>
            <a:off x="1476360" y="2276640"/>
            <a:ext cx="7199280" cy="0"/>
          </a:xfrm>
          <a:prstGeom prst="line">
            <a:avLst/>
          </a:prstGeom>
          <a:ln w="936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32" name="Picture 3" descr="C:\Users\Assoprojection JHH\Dropbox\Projection\Eléments graphiques\LOGO PROJ HD.png"/>
          <p:cNvPicPr/>
          <p:nvPr/>
        </p:nvPicPr>
        <p:blipFill>
          <a:blip r:embed="rId1"/>
          <a:stretch/>
        </p:blipFill>
        <p:spPr>
          <a:xfrm>
            <a:off x="6948360" y="809640"/>
            <a:ext cx="1727280" cy="139860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1" descr=""/>
          <p:cNvPicPr/>
          <p:nvPr/>
        </p:nvPicPr>
        <p:blipFill>
          <a:blip r:embed="rId2"/>
          <a:stretch/>
        </p:blipFill>
        <p:spPr>
          <a:xfrm>
            <a:off x="395280" y="981000"/>
            <a:ext cx="961920" cy="1467000"/>
          </a:xfrm>
          <a:prstGeom prst="rect">
            <a:avLst/>
          </a:prstGeom>
          <a:ln w="0">
            <a:noFill/>
          </a:ln>
        </p:spPr>
      </p:pic>
      <p:sp>
        <p:nvSpPr>
          <p:cNvPr id="534" name="Rectangle 12"/>
          <p:cNvSpPr/>
          <p:nvPr/>
        </p:nvSpPr>
        <p:spPr>
          <a:xfrm>
            <a:off x="3708360" y="2338560"/>
            <a:ext cx="5111640" cy="43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7f7f7f"/>
                </a:solidFill>
                <a:latin typeface="Gill Sans MT"/>
              </a:rPr>
              <a:t>Zone 2 – Exposition des solu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fr-FR" sz="2200" spc="-1" strike="noStrike">
                <a:solidFill>
                  <a:srgbClr val="000000"/>
                </a:solidFill>
                <a:latin typeface="Gill Sans MT"/>
              </a:rPr>
              <a:t>Une quinzaine de solutions exposées à l’intérieur et autour de la reproduction d’habitats informel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fr-FR" sz="2200" spc="-1" strike="noStrike">
                <a:solidFill>
                  <a:srgbClr val="000000"/>
                </a:solidFill>
                <a:latin typeface="Gill Sans MT"/>
              </a:rPr>
              <a:t>Supports visuels et démonstration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fr-FR" sz="2200" spc="-1" strike="noStrike">
                <a:solidFill>
                  <a:srgbClr val="000000"/>
                </a:solidFill>
                <a:latin typeface="Gill Sans MT"/>
              </a:rPr>
              <a:t>Principe de la réalité augmenté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fr-FR" sz="2200" spc="-1" strike="noStrike">
                <a:solidFill>
                  <a:srgbClr val="000000"/>
                </a:solidFill>
                <a:latin typeface="Gill Sans MT"/>
              </a:rPr>
              <a:t>Pictogrammes pour créer un fi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Gill Sans MT"/>
              </a:rPr>
              <a:t>conducteur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5" name="TextBox 14"/>
          <p:cNvSpPr/>
          <p:nvPr/>
        </p:nvSpPr>
        <p:spPr>
          <a:xfrm>
            <a:off x="4413600" y="638172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Gill Sans MT"/>
              </a:rPr>
              <a:t>Journée d’échanges du 19 janvier 2012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36" name="Picture 2" descr="C:\Users\Assoprojection JHH\Desktop\projection perso\LOGO FME grand.jpg"/>
          <p:cNvPicPr/>
          <p:nvPr/>
        </p:nvPicPr>
        <p:blipFill>
          <a:blip r:embed="rId3"/>
          <a:stretch/>
        </p:blipFill>
        <p:spPr>
          <a:xfrm>
            <a:off x="7931160" y="5732640"/>
            <a:ext cx="817560" cy="982440"/>
          </a:xfrm>
          <a:prstGeom prst="rect">
            <a:avLst/>
          </a:prstGeom>
          <a:ln w="0">
            <a:noFill/>
          </a:ln>
        </p:spPr>
      </p:pic>
      <p:sp>
        <p:nvSpPr>
          <p:cNvPr id="537" name="Espace réservé du contenu 2"/>
          <p:cNvSpPr/>
          <p:nvPr/>
        </p:nvSpPr>
        <p:spPr>
          <a:xfrm>
            <a:off x="1116000" y="1125360"/>
            <a:ext cx="568800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D’UN MONDE DE BIDONVILLES À UN MONDE DE SOLUTIO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Gill Sans MT"/>
              </a:rPr>
              <a:t>UNE CONTRIBUTION AU 6</a:t>
            </a:r>
            <a:r>
              <a:rPr b="0" lang="fr-FR" sz="1700" spc="-1" strike="noStrike" baseline="30000">
                <a:solidFill>
                  <a:srgbClr val="000000"/>
                </a:solidFill>
                <a:latin typeface="Gill Sans MT"/>
              </a:rPr>
              <a:t>ÈME</a:t>
            </a:r>
            <a:r>
              <a:rPr b="0" lang="fr-FR" sz="1700" spc="-1" strike="noStrike">
                <a:solidFill>
                  <a:srgbClr val="000000"/>
                </a:solidFill>
                <a:latin typeface="Gill Sans MT"/>
              </a:rPr>
              <a:t> FORUM MONDIAL DE L’EAU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38" name="Picture 1" descr=""/>
          <p:cNvPicPr/>
          <p:nvPr/>
        </p:nvPicPr>
        <p:blipFill>
          <a:blip r:embed="rId4"/>
          <a:stretch/>
        </p:blipFill>
        <p:spPr>
          <a:xfrm>
            <a:off x="250920" y="2349360"/>
            <a:ext cx="3362400" cy="38196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Picture 3" descr=""/>
          <p:cNvPicPr/>
          <p:nvPr/>
        </p:nvPicPr>
        <p:blipFill>
          <a:blip r:embed="rId1"/>
          <a:stretch/>
        </p:blipFill>
        <p:spPr>
          <a:xfrm>
            <a:off x="5651640" y="2565360"/>
            <a:ext cx="3492360" cy="3807000"/>
          </a:xfrm>
          <a:prstGeom prst="rect">
            <a:avLst/>
          </a:prstGeom>
          <a:ln w="0">
            <a:noFill/>
          </a:ln>
        </p:spPr>
      </p:pic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464653"/>
              </a:solidFill>
              <a:latin typeface="Arial"/>
              <a:ea typeface="Arial"/>
            </a:endParaRPr>
          </a:p>
        </p:txBody>
      </p:sp>
      <p:sp>
        <p:nvSpPr>
          <p:cNvPr id="541" name="Espace réservé du numéro de diapositive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1598C-D515-40CA-B8A9-C610EC33FF41}" type="slidenum">
              <a:rPr b="0" lang="fr-BE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2" name="Rectangle 2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26bc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3" name="Ellipse 11"/>
          <p:cNvSpPr/>
          <p:nvPr/>
        </p:nvSpPr>
        <p:spPr>
          <a:xfrm>
            <a:off x="-181080" y="549360"/>
            <a:ext cx="9506160" cy="934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4" name="Connecteur droit 13"/>
          <p:cNvSpPr/>
          <p:nvPr/>
        </p:nvSpPr>
        <p:spPr>
          <a:xfrm>
            <a:off x="1476360" y="2276640"/>
            <a:ext cx="7199280" cy="0"/>
          </a:xfrm>
          <a:prstGeom prst="line">
            <a:avLst/>
          </a:prstGeom>
          <a:ln w="936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45" name="Picture 3" descr="C:\Users\Assoprojection JHH\Dropbox\Projection\Eléments graphiques\LOGO PROJ HD.png"/>
          <p:cNvPicPr/>
          <p:nvPr/>
        </p:nvPicPr>
        <p:blipFill>
          <a:blip r:embed="rId2"/>
          <a:stretch/>
        </p:blipFill>
        <p:spPr>
          <a:xfrm>
            <a:off x="6948360" y="809640"/>
            <a:ext cx="1727280" cy="139860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1" descr=""/>
          <p:cNvPicPr/>
          <p:nvPr/>
        </p:nvPicPr>
        <p:blipFill>
          <a:blip r:embed="rId3"/>
          <a:stretch/>
        </p:blipFill>
        <p:spPr>
          <a:xfrm>
            <a:off x="395280" y="981000"/>
            <a:ext cx="961920" cy="1467000"/>
          </a:xfrm>
          <a:prstGeom prst="rect">
            <a:avLst/>
          </a:prstGeom>
          <a:ln w="0">
            <a:noFill/>
          </a:ln>
        </p:spPr>
      </p:pic>
      <p:sp>
        <p:nvSpPr>
          <p:cNvPr id="547" name="Rectangle 12"/>
          <p:cNvSpPr/>
          <p:nvPr/>
        </p:nvSpPr>
        <p:spPr>
          <a:xfrm>
            <a:off x="395280" y="2421000"/>
            <a:ext cx="6048360" cy="44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7f7f7f"/>
                </a:solidFill>
                <a:latin typeface="Gill Sans MT"/>
              </a:rPr>
              <a:t>Zone 3 – Espace de débat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fr-FR" sz="2200" spc="-1" strike="noStrike">
                <a:solidFill>
                  <a:srgbClr val="000000"/>
                </a:solidFill>
                <a:latin typeface="Gill Sans MT"/>
              </a:rPr>
              <a:t>Un programme de conférences tout au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Gill Sans MT"/>
              </a:rPr>
              <a:t>long de la semaine sur les questions d’accès à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Gill Sans MT"/>
              </a:rPr>
              <a:t>l’eau et à l’assainissement dans les bidonville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fr-FR" sz="2200" spc="-1" strike="noStrike">
                <a:solidFill>
                  <a:srgbClr val="000000"/>
                </a:solidFill>
                <a:latin typeface="Gill Sans MT"/>
              </a:rPr>
              <a:t>Des moments d’échanges informel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fr-FR" sz="2200" spc="-1" strike="noStrike">
                <a:solidFill>
                  <a:srgbClr val="000000"/>
                </a:solidFill>
                <a:latin typeface="Gill Sans MT"/>
              </a:rPr>
              <a:t>L’intervention de toutes les parties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Gill Sans MT"/>
              </a:rPr>
              <a:t>prenantes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Gill Sans MT"/>
              </a:rPr>
              <a:t>(ex. Low level panels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8" name="TextBox 14"/>
          <p:cNvSpPr/>
          <p:nvPr/>
        </p:nvSpPr>
        <p:spPr>
          <a:xfrm>
            <a:off x="4413600" y="638172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Gill Sans MT"/>
              </a:rPr>
              <a:t>Journée d’échanges du 19 janvier 2012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49" name="Picture 2" descr="C:\Users\Assoprojection JHH\Desktop\projection perso\LOGO FME grand.jpg"/>
          <p:cNvPicPr/>
          <p:nvPr/>
        </p:nvPicPr>
        <p:blipFill>
          <a:blip r:embed="rId4"/>
          <a:stretch/>
        </p:blipFill>
        <p:spPr>
          <a:xfrm>
            <a:off x="7931160" y="5732640"/>
            <a:ext cx="817560" cy="982440"/>
          </a:xfrm>
          <a:prstGeom prst="rect">
            <a:avLst/>
          </a:prstGeom>
          <a:ln w="0">
            <a:noFill/>
          </a:ln>
        </p:spPr>
      </p:pic>
      <p:sp>
        <p:nvSpPr>
          <p:cNvPr id="550" name="Espace réservé du contenu 2"/>
          <p:cNvSpPr/>
          <p:nvPr/>
        </p:nvSpPr>
        <p:spPr>
          <a:xfrm>
            <a:off x="1116000" y="1125360"/>
            <a:ext cx="568800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D’UN MONDE DE BIDONVILLES À UN MONDE DE SOLUTIO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Gill Sans MT"/>
              </a:rPr>
              <a:t>UNE CONTRIBUTION AU 6</a:t>
            </a:r>
            <a:r>
              <a:rPr b="0" lang="fr-FR" sz="1700" spc="-1" strike="noStrike" baseline="30000">
                <a:solidFill>
                  <a:srgbClr val="000000"/>
                </a:solidFill>
                <a:latin typeface="Gill Sans MT"/>
              </a:rPr>
              <a:t>ÈME</a:t>
            </a:r>
            <a:r>
              <a:rPr b="0" lang="fr-FR" sz="1700" spc="-1" strike="noStrike">
                <a:solidFill>
                  <a:srgbClr val="000000"/>
                </a:solidFill>
                <a:latin typeface="Gill Sans MT"/>
              </a:rPr>
              <a:t> FORUM MONDIAL DE L’EAU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464653"/>
              </a:solidFill>
              <a:latin typeface="Arial"/>
              <a:ea typeface="Arial"/>
            </a:endParaRPr>
          </a:p>
        </p:txBody>
      </p:sp>
      <p:sp>
        <p:nvSpPr>
          <p:cNvPr id="552" name="Espace réservé du numéro de diapositive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E8DBE-0F25-444F-9A61-93B242D464AA}" type="slidenum">
              <a:rPr b="0" lang="fr-BE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3" name="Rectangle 2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26bc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4" name="Ellipse 11"/>
          <p:cNvSpPr/>
          <p:nvPr/>
        </p:nvSpPr>
        <p:spPr>
          <a:xfrm>
            <a:off x="-181080" y="549360"/>
            <a:ext cx="9506160" cy="934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5" name="Connecteur droit 13"/>
          <p:cNvSpPr/>
          <p:nvPr/>
        </p:nvSpPr>
        <p:spPr>
          <a:xfrm>
            <a:off x="1476360" y="2276640"/>
            <a:ext cx="7199280" cy="0"/>
          </a:xfrm>
          <a:prstGeom prst="line">
            <a:avLst/>
          </a:prstGeom>
          <a:ln w="936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56" name="Picture 3" descr="C:\Users\Assoprojection JHH\Dropbox\Projection\Eléments graphiques\LOGO PROJ HD.png"/>
          <p:cNvPicPr/>
          <p:nvPr/>
        </p:nvPicPr>
        <p:blipFill>
          <a:blip r:embed="rId1"/>
          <a:stretch/>
        </p:blipFill>
        <p:spPr>
          <a:xfrm>
            <a:off x="6948360" y="809640"/>
            <a:ext cx="1727280" cy="139860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1" descr=""/>
          <p:cNvPicPr/>
          <p:nvPr/>
        </p:nvPicPr>
        <p:blipFill>
          <a:blip r:embed="rId2"/>
          <a:stretch/>
        </p:blipFill>
        <p:spPr>
          <a:xfrm>
            <a:off x="395280" y="981000"/>
            <a:ext cx="961920" cy="1467000"/>
          </a:xfrm>
          <a:prstGeom prst="rect">
            <a:avLst/>
          </a:prstGeom>
          <a:ln w="0">
            <a:noFill/>
          </a:ln>
        </p:spPr>
      </p:pic>
      <p:sp>
        <p:nvSpPr>
          <p:cNvPr id="558" name="Rectangle 12"/>
          <p:cNvSpPr/>
          <p:nvPr/>
        </p:nvSpPr>
        <p:spPr>
          <a:xfrm>
            <a:off x="755640" y="2395440"/>
            <a:ext cx="8137440" cy="39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7f7f7f"/>
                </a:solidFill>
                <a:latin typeface="Gill Sans MT"/>
              </a:rPr>
              <a:t>Brainstorm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Trois groupes pour trois thèmes de réflexio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fr-FR" sz="2200" spc="-1" strike="noStrike">
                <a:solidFill>
                  <a:srgbClr val="000000"/>
                </a:solidFill>
                <a:latin typeface="Gill Sans MT"/>
              </a:rPr>
              <a:t>Les grands messages à faire passer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fr-FR" sz="2200" spc="-1" strike="noStrike">
                <a:solidFill>
                  <a:srgbClr val="000000"/>
                </a:solidFill>
                <a:latin typeface="Gill Sans MT"/>
              </a:rPr>
              <a:t>Une typologie des solution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fr-FR" sz="2200" spc="-1" strike="noStrike">
                <a:solidFill>
                  <a:srgbClr val="000000"/>
                </a:solidFill>
                <a:latin typeface="Gill Sans MT"/>
              </a:rPr>
              <a:t>Des sujets et de formats originaux pour les débats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Trois temp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fr-FR" sz="2200" spc="-1" strike="noStrike">
                <a:solidFill>
                  <a:srgbClr val="000000"/>
                </a:solidFill>
                <a:latin typeface="Gill Sans MT"/>
              </a:rPr>
              <a:t>Chacun remplit la boite à idées de son group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fr-FR" sz="2200" spc="-1" strike="noStrike">
                <a:solidFill>
                  <a:srgbClr val="000000"/>
                </a:solidFill>
                <a:latin typeface="Gill Sans MT"/>
              </a:rPr>
              <a:t>Dépouillement et débats au sein de chaque group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fr-FR" sz="2200" spc="-1" strike="noStrike">
                <a:solidFill>
                  <a:srgbClr val="000000"/>
                </a:solidFill>
                <a:latin typeface="Gill Sans MT"/>
              </a:rPr>
              <a:t>Restitution en session plénièr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9" name="TextBox 14"/>
          <p:cNvSpPr/>
          <p:nvPr/>
        </p:nvSpPr>
        <p:spPr>
          <a:xfrm>
            <a:off x="4413600" y="638172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Gill Sans MT"/>
              </a:rPr>
              <a:t>Journée d’échanges du 19 janvier 2012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60" name="Picture 2" descr="C:\Users\Assoprojection JHH\Desktop\projection perso\LOGO FME grand.jpg"/>
          <p:cNvPicPr/>
          <p:nvPr/>
        </p:nvPicPr>
        <p:blipFill>
          <a:blip r:embed="rId3"/>
          <a:stretch/>
        </p:blipFill>
        <p:spPr>
          <a:xfrm>
            <a:off x="7931160" y="5732640"/>
            <a:ext cx="817560" cy="982440"/>
          </a:xfrm>
          <a:prstGeom prst="rect">
            <a:avLst/>
          </a:prstGeom>
          <a:ln w="0">
            <a:noFill/>
          </a:ln>
        </p:spPr>
      </p:pic>
      <p:sp>
        <p:nvSpPr>
          <p:cNvPr id="561" name="Espace réservé du contenu 2"/>
          <p:cNvSpPr/>
          <p:nvPr/>
        </p:nvSpPr>
        <p:spPr>
          <a:xfrm>
            <a:off x="1116000" y="1125360"/>
            <a:ext cx="568800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D’UN MONDE DE BIDONVILLES À UN MONDE DE SOLUTIO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Gill Sans MT"/>
              </a:rPr>
              <a:t>UNE CONTRIBUTION AU 6</a:t>
            </a:r>
            <a:r>
              <a:rPr b="0" lang="fr-FR" sz="1700" spc="-1" strike="noStrike" baseline="30000">
                <a:solidFill>
                  <a:srgbClr val="000000"/>
                </a:solidFill>
                <a:latin typeface="Gill Sans MT"/>
              </a:rPr>
              <a:t>ÈME</a:t>
            </a:r>
            <a:r>
              <a:rPr b="0" lang="fr-FR" sz="1700" spc="-1" strike="noStrike">
                <a:solidFill>
                  <a:srgbClr val="000000"/>
                </a:solidFill>
                <a:latin typeface="Gill Sans MT"/>
              </a:rPr>
              <a:t> FORUM MONDIAL DE L’EAU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2" name="Picture 2" descr=""/>
          <p:cNvPicPr/>
          <p:nvPr/>
        </p:nvPicPr>
        <p:blipFill>
          <a:blip r:embed="rId1"/>
          <a:stretch/>
        </p:blipFill>
        <p:spPr>
          <a:xfrm>
            <a:off x="1476360" y="2398680"/>
            <a:ext cx="6191280" cy="4459320"/>
          </a:xfrm>
          <a:prstGeom prst="rect">
            <a:avLst/>
          </a:prstGeom>
          <a:ln w="0">
            <a:noFill/>
          </a:ln>
        </p:spPr>
      </p:pic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464653"/>
              </a:solidFill>
              <a:latin typeface="Arial"/>
              <a:ea typeface="Arial"/>
            </a:endParaRPr>
          </a:p>
        </p:txBody>
      </p:sp>
      <p:sp>
        <p:nvSpPr>
          <p:cNvPr id="564" name="Espace réservé du numéro de diapositive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F2E6F-9426-4F32-8179-D912F95970F1}" type="slidenum">
              <a:rPr b="0" lang="fr-BE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5" name="Rectangle 2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26bc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6" name="Ellipse 11"/>
          <p:cNvSpPr/>
          <p:nvPr/>
        </p:nvSpPr>
        <p:spPr>
          <a:xfrm>
            <a:off x="-181080" y="549360"/>
            <a:ext cx="9506160" cy="934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7" name="Connecteur droit 13"/>
          <p:cNvSpPr/>
          <p:nvPr/>
        </p:nvSpPr>
        <p:spPr>
          <a:xfrm>
            <a:off x="1476360" y="2276640"/>
            <a:ext cx="7199280" cy="0"/>
          </a:xfrm>
          <a:prstGeom prst="line">
            <a:avLst/>
          </a:prstGeom>
          <a:ln w="936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68" name="Picture 3" descr="C:\Users\Assoprojection JHH\Dropbox\Projection\Eléments graphiques\LOGO PROJ HD.png"/>
          <p:cNvPicPr/>
          <p:nvPr/>
        </p:nvPicPr>
        <p:blipFill>
          <a:blip r:embed="rId2"/>
          <a:stretch/>
        </p:blipFill>
        <p:spPr>
          <a:xfrm>
            <a:off x="6948360" y="809640"/>
            <a:ext cx="1727280" cy="139860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1" descr=""/>
          <p:cNvPicPr/>
          <p:nvPr/>
        </p:nvPicPr>
        <p:blipFill>
          <a:blip r:embed="rId3"/>
          <a:stretch/>
        </p:blipFill>
        <p:spPr>
          <a:xfrm>
            <a:off x="395280" y="981000"/>
            <a:ext cx="961920" cy="1467000"/>
          </a:xfrm>
          <a:prstGeom prst="rect">
            <a:avLst/>
          </a:prstGeom>
          <a:ln w="0">
            <a:noFill/>
          </a:ln>
        </p:spPr>
      </p:pic>
      <p:sp>
        <p:nvSpPr>
          <p:cNvPr id="570" name="Rectangle 12"/>
          <p:cNvSpPr/>
          <p:nvPr/>
        </p:nvSpPr>
        <p:spPr>
          <a:xfrm>
            <a:off x="1116000" y="2338560"/>
            <a:ext cx="763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1" name="TextBox 14"/>
          <p:cNvSpPr/>
          <p:nvPr/>
        </p:nvSpPr>
        <p:spPr>
          <a:xfrm>
            <a:off x="4413600" y="638172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Gill Sans MT"/>
              </a:rPr>
              <a:t>Journée d’échanges du 19 janvier 2012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72" name="Picture 2" descr="C:\Users\Assoprojection JHH\Desktop\projection perso\LOGO FME grand.jpg"/>
          <p:cNvPicPr/>
          <p:nvPr/>
        </p:nvPicPr>
        <p:blipFill>
          <a:blip r:embed="rId4"/>
          <a:stretch/>
        </p:blipFill>
        <p:spPr>
          <a:xfrm>
            <a:off x="7931160" y="5732640"/>
            <a:ext cx="817560" cy="982440"/>
          </a:xfrm>
          <a:prstGeom prst="rect">
            <a:avLst/>
          </a:prstGeom>
          <a:ln w="0">
            <a:noFill/>
          </a:ln>
        </p:spPr>
      </p:pic>
      <p:sp>
        <p:nvSpPr>
          <p:cNvPr id="573" name="Espace réservé du contenu 2"/>
          <p:cNvSpPr/>
          <p:nvPr/>
        </p:nvSpPr>
        <p:spPr>
          <a:xfrm>
            <a:off x="1116000" y="1125360"/>
            <a:ext cx="568800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D’UN MONDE DE BIDONVILLES À UN MONDE DE SOLUTIO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Gill Sans MT"/>
              </a:rPr>
              <a:t>UNE CONTRIBUTION AU 6</a:t>
            </a:r>
            <a:r>
              <a:rPr b="0" lang="fr-FR" sz="1700" spc="-1" strike="noStrike" baseline="30000">
                <a:solidFill>
                  <a:srgbClr val="000000"/>
                </a:solidFill>
                <a:latin typeface="Gill Sans MT"/>
              </a:rPr>
              <a:t>ÈME</a:t>
            </a:r>
            <a:r>
              <a:rPr b="0" lang="fr-FR" sz="1700" spc="-1" strike="noStrike">
                <a:solidFill>
                  <a:srgbClr val="000000"/>
                </a:solidFill>
                <a:latin typeface="Gill Sans MT"/>
              </a:rPr>
              <a:t> FORUM MONDIAL DE L’EAU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464653"/>
              </a:solidFill>
              <a:latin typeface="Arial"/>
              <a:ea typeface="Arial"/>
            </a:endParaRPr>
          </a:p>
        </p:txBody>
      </p:sp>
      <p:sp>
        <p:nvSpPr>
          <p:cNvPr id="370" name="Espace réservé du numéro de diapositive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88142-3002-4549-BF19-9FCBDEBFDBF2}" type="slidenum">
              <a:rPr b="0" lang="fr-BE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Rectangle 2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26bc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2" name="Ellipse 11"/>
          <p:cNvSpPr/>
          <p:nvPr/>
        </p:nvSpPr>
        <p:spPr>
          <a:xfrm>
            <a:off x="-181080" y="549360"/>
            <a:ext cx="9506160" cy="934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3" name="Connecteur droit 13"/>
          <p:cNvSpPr/>
          <p:nvPr/>
        </p:nvSpPr>
        <p:spPr>
          <a:xfrm>
            <a:off x="1476360" y="2276640"/>
            <a:ext cx="7199280" cy="0"/>
          </a:xfrm>
          <a:prstGeom prst="line">
            <a:avLst/>
          </a:prstGeom>
          <a:ln w="936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74" name="Picture 3" descr="C:\Users\Assoprojection JHH\Dropbox\Projection\Eléments graphiques\LOGO PROJ HD.png"/>
          <p:cNvPicPr/>
          <p:nvPr/>
        </p:nvPicPr>
        <p:blipFill>
          <a:blip r:embed="rId1"/>
          <a:stretch/>
        </p:blipFill>
        <p:spPr>
          <a:xfrm>
            <a:off x="6948360" y="809640"/>
            <a:ext cx="1727280" cy="139860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1" descr=""/>
          <p:cNvPicPr/>
          <p:nvPr/>
        </p:nvPicPr>
        <p:blipFill>
          <a:blip r:embed="rId2"/>
          <a:stretch/>
        </p:blipFill>
        <p:spPr>
          <a:xfrm>
            <a:off x="395280" y="981000"/>
            <a:ext cx="961920" cy="1467000"/>
          </a:xfrm>
          <a:prstGeom prst="rect">
            <a:avLst/>
          </a:prstGeom>
          <a:ln w="0">
            <a:noFill/>
          </a:ln>
        </p:spPr>
      </p:pic>
      <p:sp>
        <p:nvSpPr>
          <p:cNvPr id="376" name="TextBox 14"/>
          <p:cNvSpPr/>
          <p:nvPr/>
        </p:nvSpPr>
        <p:spPr>
          <a:xfrm>
            <a:off x="4413600" y="638172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Gill Sans MT"/>
              </a:rPr>
              <a:t>Journée d’échanges du 19 janvier 2012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77" name="Picture 2" descr="C:\Users\Assoprojection JHH\Desktop\projection perso\LOGO FME grand.jpg"/>
          <p:cNvPicPr/>
          <p:nvPr/>
        </p:nvPicPr>
        <p:blipFill>
          <a:blip r:embed="rId3"/>
          <a:stretch/>
        </p:blipFill>
        <p:spPr>
          <a:xfrm>
            <a:off x="7931160" y="5732640"/>
            <a:ext cx="817560" cy="982440"/>
          </a:xfrm>
          <a:prstGeom prst="rect">
            <a:avLst/>
          </a:prstGeom>
          <a:ln w="0">
            <a:noFill/>
          </a:ln>
        </p:spPr>
      </p:pic>
      <p:sp>
        <p:nvSpPr>
          <p:cNvPr id="378" name="Espace réservé du contenu 2"/>
          <p:cNvSpPr/>
          <p:nvPr/>
        </p:nvSpPr>
        <p:spPr>
          <a:xfrm>
            <a:off x="1116000" y="1125360"/>
            <a:ext cx="568800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D’UN MONDE DE BIDONVILLES À UN MONDE DE SOLUTIO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Gill Sans MT"/>
              </a:rPr>
              <a:t>UNE CONTRIBUTION AU 6</a:t>
            </a:r>
            <a:r>
              <a:rPr b="0" lang="fr-FR" sz="1700" spc="-1" strike="noStrike" baseline="30000">
                <a:solidFill>
                  <a:srgbClr val="000000"/>
                </a:solidFill>
                <a:latin typeface="Gill Sans MT"/>
              </a:rPr>
              <a:t>ÈME</a:t>
            </a:r>
            <a:r>
              <a:rPr b="0" lang="fr-FR" sz="1700" spc="-1" strike="noStrike">
                <a:solidFill>
                  <a:srgbClr val="000000"/>
                </a:solidFill>
                <a:latin typeface="Gill Sans MT"/>
              </a:rPr>
              <a:t> FORUM MONDIAL DE L’EAU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9" name="Rectangle 12"/>
          <p:cNvSpPr/>
          <p:nvPr/>
        </p:nvSpPr>
        <p:spPr>
          <a:xfrm>
            <a:off x="755640" y="2398680"/>
            <a:ext cx="8388360" cy="41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Gill Sans MT"/>
              </a:rPr>
              <a:t>Le Forum Mondial de l’Eau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Le plus grand évènement  international du secteu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Tous les 3 a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25 000 participants : Professionnels, décideurs et société civile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i="1" lang="fr-FR" sz="2400" spc="-1" strike="noStrike">
                <a:solidFill>
                  <a:srgbClr val="000000"/>
                </a:solidFill>
                <a:latin typeface="Gill Sans MT"/>
              </a:rPr>
              <a:t>Un constat : peu de visibilité pour les jeunes professionnel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464653"/>
              </a:solidFill>
              <a:latin typeface="Arial"/>
              <a:ea typeface="Arial"/>
            </a:endParaRPr>
          </a:p>
        </p:txBody>
      </p:sp>
      <p:sp>
        <p:nvSpPr>
          <p:cNvPr id="381" name="Espace réservé du numéro de diapositive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F39A2-B444-4F86-B753-D2AF6C68A7E7}" type="slidenum">
              <a:rPr b="0" lang="fr-BE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2" name="Rectangle 2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26bc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3" name="Ellipse 11"/>
          <p:cNvSpPr/>
          <p:nvPr/>
        </p:nvSpPr>
        <p:spPr>
          <a:xfrm>
            <a:off x="-181080" y="549360"/>
            <a:ext cx="9506160" cy="934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4" name="Connecteur droit 13"/>
          <p:cNvSpPr/>
          <p:nvPr/>
        </p:nvSpPr>
        <p:spPr>
          <a:xfrm>
            <a:off x="1476360" y="2276640"/>
            <a:ext cx="7199280" cy="0"/>
          </a:xfrm>
          <a:prstGeom prst="line">
            <a:avLst/>
          </a:prstGeom>
          <a:ln w="936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85" name="Picture 3" descr="C:\Users\Assoprojection JHH\Dropbox\Projection\Eléments graphiques\LOGO PROJ HD.png"/>
          <p:cNvPicPr/>
          <p:nvPr/>
        </p:nvPicPr>
        <p:blipFill>
          <a:blip r:embed="rId1"/>
          <a:stretch/>
        </p:blipFill>
        <p:spPr>
          <a:xfrm>
            <a:off x="6948360" y="809640"/>
            <a:ext cx="1727280" cy="139860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1" descr=""/>
          <p:cNvPicPr/>
          <p:nvPr/>
        </p:nvPicPr>
        <p:blipFill>
          <a:blip r:embed="rId2"/>
          <a:stretch/>
        </p:blipFill>
        <p:spPr>
          <a:xfrm>
            <a:off x="395280" y="981000"/>
            <a:ext cx="961920" cy="1467000"/>
          </a:xfrm>
          <a:prstGeom prst="rect">
            <a:avLst/>
          </a:prstGeom>
          <a:ln w="0">
            <a:noFill/>
          </a:ln>
        </p:spPr>
      </p:pic>
      <p:sp>
        <p:nvSpPr>
          <p:cNvPr id="387" name="Rectangle 12"/>
          <p:cNvSpPr/>
          <p:nvPr/>
        </p:nvSpPr>
        <p:spPr>
          <a:xfrm>
            <a:off x="2700360" y="2338560"/>
            <a:ext cx="6048360" cy="38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Gill Sans MT"/>
              </a:rPr>
              <a:t>Qu’est-ce qui change au 6</a:t>
            </a:r>
            <a:r>
              <a:rPr b="1" lang="fr-FR" sz="3200" spc="-1" strike="noStrike" baseline="30000">
                <a:solidFill>
                  <a:srgbClr val="000000"/>
                </a:solidFill>
                <a:latin typeface="Gill Sans MT"/>
              </a:rPr>
              <a:t>ème</a:t>
            </a:r>
            <a:r>
              <a:rPr b="1" lang="fr-FR" sz="3200" spc="-1" strike="noStrike">
                <a:solidFill>
                  <a:srgbClr val="000000"/>
                </a:solidFill>
                <a:latin typeface="Gill Sans MT"/>
              </a:rPr>
              <a:t> Forum Mondial de l’Eau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12 au 17 mars à Marseill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« Le temps des solutions » =&gt; engagemen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Une contribution préparée et visible des jeunes professionnel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8" name="TextBox 14"/>
          <p:cNvSpPr/>
          <p:nvPr/>
        </p:nvSpPr>
        <p:spPr>
          <a:xfrm>
            <a:off x="4413600" y="638172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Gill Sans MT"/>
              </a:rPr>
              <a:t>Journée d’échanges du 19 janvier 2012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89" name="Picture 2" descr="C:\Users\Assoprojection JHH\Desktop\projection perso\LOGO FME grand.jpg"/>
          <p:cNvPicPr/>
          <p:nvPr/>
        </p:nvPicPr>
        <p:blipFill>
          <a:blip r:embed="rId3"/>
          <a:stretch/>
        </p:blipFill>
        <p:spPr>
          <a:xfrm>
            <a:off x="7931160" y="5732640"/>
            <a:ext cx="817560" cy="982440"/>
          </a:xfrm>
          <a:prstGeom prst="rect">
            <a:avLst/>
          </a:prstGeom>
          <a:ln w="0">
            <a:noFill/>
          </a:ln>
        </p:spPr>
      </p:pic>
      <p:sp>
        <p:nvSpPr>
          <p:cNvPr id="390" name="Espace réservé du contenu 2"/>
          <p:cNvSpPr/>
          <p:nvPr/>
        </p:nvSpPr>
        <p:spPr>
          <a:xfrm>
            <a:off x="1116000" y="1125360"/>
            <a:ext cx="568800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D’UN MONDE DE BIDONVILLES À UN MONDE DE SOLUTIO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Gill Sans MT"/>
              </a:rPr>
              <a:t>UNE CONTRIBUTION AU 6</a:t>
            </a:r>
            <a:r>
              <a:rPr b="0" lang="fr-FR" sz="1700" spc="-1" strike="noStrike" baseline="30000">
                <a:solidFill>
                  <a:srgbClr val="000000"/>
                </a:solidFill>
                <a:latin typeface="Gill Sans MT"/>
              </a:rPr>
              <a:t>ÈME</a:t>
            </a:r>
            <a:r>
              <a:rPr b="0" lang="fr-FR" sz="1700" spc="-1" strike="noStrike">
                <a:solidFill>
                  <a:srgbClr val="000000"/>
                </a:solidFill>
                <a:latin typeface="Gill Sans MT"/>
              </a:rPr>
              <a:t> FORUM MONDIAL DE L’EAU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91" name="Picture 2" descr="C:\Users\Assoprojection JHH\Desktop\projection perso\LOGO FME grand.jpg"/>
          <p:cNvPicPr/>
          <p:nvPr/>
        </p:nvPicPr>
        <p:blipFill>
          <a:blip r:embed="rId4"/>
          <a:stretch/>
        </p:blipFill>
        <p:spPr>
          <a:xfrm>
            <a:off x="324000" y="3141720"/>
            <a:ext cx="2035080" cy="2448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464653"/>
              </a:solidFill>
              <a:latin typeface="Arial"/>
              <a:ea typeface="Arial"/>
            </a:endParaRPr>
          </a:p>
        </p:txBody>
      </p:sp>
      <p:sp>
        <p:nvSpPr>
          <p:cNvPr id="393" name="Espace réservé du numéro de diapositive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25C90-432C-4E5F-9CCF-8B5ECCE11BEC}" type="slidenum">
              <a:rPr b="0" lang="fr-BE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4" name="Rectangle 2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26bc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5" name="Ellipse 11"/>
          <p:cNvSpPr/>
          <p:nvPr/>
        </p:nvSpPr>
        <p:spPr>
          <a:xfrm>
            <a:off x="-181080" y="549360"/>
            <a:ext cx="9506160" cy="934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6" name="Connecteur droit 13"/>
          <p:cNvSpPr/>
          <p:nvPr/>
        </p:nvSpPr>
        <p:spPr>
          <a:xfrm>
            <a:off x="1476360" y="2276640"/>
            <a:ext cx="7199280" cy="0"/>
          </a:xfrm>
          <a:prstGeom prst="line">
            <a:avLst/>
          </a:prstGeom>
          <a:ln w="936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97" name="Picture 3" descr="C:\Users\Assoprojection JHH\Dropbox\Projection\Eléments graphiques\LOGO PROJ HD.png"/>
          <p:cNvPicPr/>
          <p:nvPr/>
        </p:nvPicPr>
        <p:blipFill>
          <a:blip r:embed="rId1"/>
          <a:stretch/>
        </p:blipFill>
        <p:spPr>
          <a:xfrm>
            <a:off x="6948360" y="809640"/>
            <a:ext cx="1727280" cy="139860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1" descr=""/>
          <p:cNvPicPr/>
          <p:nvPr/>
        </p:nvPicPr>
        <p:blipFill>
          <a:blip r:embed="rId2"/>
          <a:stretch/>
        </p:blipFill>
        <p:spPr>
          <a:xfrm>
            <a:off x="395280" y="981000"/>
            <a:ext cx="961920" cy="1467000"/>
          </a:xfrm>
          <a:prstGeom prst="rect">
            <a:avLst/>
          </a:prstGeom>
          <a:ln w="0">
            <a:noFill/>
          </a:ln>
        </p:spPr>
      </p:pic>
      <p:sp>
        <p:nvSpPr>
          <p:cNvPr id="399" name="Rectangle 12"/>
          <p:cNvSpPr/>
          <p:nvPr/>
        </p:nvSpPr>
        <p:spPr>
          <a:xfrm>
            <a:off x="468360" y="2378160"/>
            <a:ext cx="8675640" cy="32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7f7f7f"/>
                </a:solidFill>
                <a:latin typeface="Gill Sans MT"/>
              </a:rPr>
              <a:t>Une offre spécifique J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7f7f7f"/>
                </a:solidFill>
                <a:latin typeface="Gill Sans MT"/>
              </a:rPr>
              <a:t>pour participer au forum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Un droit d’entrée 2 fois moins cher que pour les senio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6a5650"/>
                </a:solidFill>
                <a:latin typeface="Gill Sans MT"/>
              </a:rPr>
              <a:t>250 euros (OCDE) ou 150 euros (hors OCDE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Un accompagnement personnalisé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6a5650"/>
                </a:solidFill>
                <a:latin typeface="Gill Sans MT"/>
              </a:rPr>
              <a:t>selon votre profil et vos attente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0" name="TextBox 14"/>
          <p:cNvSpPr/>
          <p:nvPr/>
        </p:nvSpPr>
        <p:spPr>
          <a:xfrm>
            <a:off x="4413600" y="638172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Gill Sans MT"/>
              </a:rPr>
              <a:t>Journée d’échanges du 19 janvier 2012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01" name="Picture 2" descr="C:\Users\Assoprojection JHH\Desktop\projection perso\LOGO FME grand.jpg"/>
          <p:cNvPicPr/>
          <p:nvPr/>
        </p:nvPicPr>
        <p:blipFill>
          <a:blip r:embed="rId3"/>
          <a:stretch/>
        </p:blipFill>
        <p:spPr>
          <a:xfrm>
            <a:off x="7931160" y="5732640"/>
            <a:ext cx="817560" cy="982440"/>
          </a:xfrm>
          <a:prstGeom prst="rect">
            <a:avLst/>
          </a:prstGeom>
          <a:ln w="0">
            <a:noFill/>
          </a:ln>
        </p:spPr>
      </p:pic>
      <p:sp>
        <p:nvSpPr>
          <p:cNvPr id="402" name="Espace réservé du contenu 2"/>
          <p:cNvSpPr/>
          <p:nvPr/>
        </p:nvSpPr>
        <p:spPr>
          <a:xfrm>
            <a:off x="1116000" y="1125360"/>
            <a:ext cx="568800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D’UN MONDE DE BIDONVILLES À UN MONDE DE SOLUTIO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Gill Sans MT"/>
              </a:rPr>
              <a:t>UNE CONTRIBUTION AU 6</a:t>
            </a:r>
            <a:r>
              <a:rPr b="0" lang="fr-FR" sz="1700" spc="-1" strike="noStrike" baseline="30000">
                <a:solidFill>
                  <a:srgbClr val="000000"/>
                </a:solidFill>
                <a:latin typeface="Gill Sans MT"/>
              </a:rPr>
              <a:t>ÈME</a:t>
            </a:r>
            <a:r>
              <a:rPr b="0" lang="fr-FR" sz="1700" spc="-1" strike="noStrike">
                <a:solidFill>
                  <a:srgbClr val="000000"/>
                </a:solidFill>
                <a:latin typeface="Gill Sans MT"/>
              </a:rPr>
              <a:t> FORUM MONDIAL DE L’EAU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464653"/>
              </a:solidFill>
              <a:latin typeface="Arial"/>
              <a:ea typeface="Arial"/>
            </a:endParaRPr>
          </a:p>
        </p:txBody>
      </p:sp>
      <p:sp>
        <p:nvSpPr>
          <p:cNvPr id="404" name="Espace réservé du numéro de diapositive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058BC-51C5-4638-89E6-217AACF29BB2}" type="slidenum">
              <a:rPr b="0" lang="fr-BE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5" name="Rectangle 2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26bc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" name="Ellipse 11"/>
          <p:cNvSpPr/>
          <p:nvPr/>
        </p:nvSpPr>
        <p:spPr>
          <a:xfrm>
            <a:off x="-181080" y="549360"/>
            <a:ext cx="9506160" cy="934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7" name="Connecteur droit 13"/>
          <p:cNvSpPr/>
          <p:nvPr/>
        </p:nvSpPr>
        <p:spPr>
          <a:xfrm>
            <a:off x="1476360" y="2276640"/>
            <a:ext cx="7199280" cy="0"/>
          </a:xfrm>
          <a:prstGeom prst="line">
            <a:avLst/>
          </a:prstGeom>
          <a:ln w="936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08" name="Picture 3" descr="C:\Users\Assoprojection JHH\Dropbox\Projection\Eléments graphiques\LOGO PROJ HD.png"/>
          <p:cNvPicPr/>
          <p:nvPr/>
        </p:nvPicPr>
        <p:blipFill>
          <a:blip r:embed="rId1"/>
          <a:stretch/>
        </p:blipFill>
        <p:spPr>
          <a:xfrm>
            <a:off x="6948360" y="809640"/>
            <a:ext cx="1727280" cy="139860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1" descr=""/>
          <p:cNvPicPr/>
          <p:nvPr/>
        </p:nvPicPr>
        <p:blipFill>
          <a:blip r:embed="rId2"/>
          <a:stretch/>
        </p:blipFill>
        <p:spPr>
          <a:xfrm>
            <a:off x="395280" y="981000"/>
            <a:ext cx="961920" cy="1467000"/>
          </a:xfrm>
          <a:prstGeom prst="rect">
            <a:avLst/>
          </a:prstGeom>
          <a:ln w="0">
            <a:noFill/>
          </a:ln>
        </p:spPr>
      </p:pic>
      <p:sp>
        <p:nvSpPr>
          <p:cNvPr id="410" name="Rectangle 12"/>
          <p:cNvSpPr/>
          <p:nvPr/>
        </p:nvSpPr>
        <p:spPr>
          <a:xfrm>
            <a:off x="324000" y="2421000"/>
            <a:ext cx="8675640" cy="39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7f7f7f"/>
                </a:solidFill>
                <a:latin typeface="Gill Sans MT"/>
              </a:rPr>
              <a:t>Une offre spécifique J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7f7f7f"/>
                </a:solidFill>
                <a:latin typeface="Gill Sans MT"/>
              </a:rPr>
              <a:t>pour rencontrer et échanger en dehors du forum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Une Auberge des jeunes professionnel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6a5650"/>
                </a:solidFill>
                <a:latin typeface="Gill Sans MT"/>
              </a:rPr>
              <a:t>Plus de 100 places à tarifs négociés à 15 mn à pieds du forum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Des animations quotidiennes, pour échanger, rencontrer………… ……et se détendre!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6a5650"/>
                </a:solidFill>
                <a:latin typeface="Gill Sans MT"/>
              </a:rPr>
              <a:t>ouvert à tou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1" name="TextBox 14"/>
          <p:cNvSpPr/>
          <p:nvPr/>
        </p:nvSpPr>
        <p:spPr>
          <a:xfrm>
            <a:off x="4413600" y="638172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Gill Sans MT"/>
              </a:rPr>
              <a:t>Journée d’échanges du 19 janvier 2012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12" name="Picture 2" descr="C:\Users\Assoprojection JHH\Desktop\projection perso\LOGO FME grand.jpg"/>
          <p:cNvPicPr/>
          <p:nvPr/>
        </p:nvPicPr>
        <p:blipFill>
          <a:blip r:embed="rId3"/>
          <a:stretch/>
        </p:blipFill>
        <p:spPr>
          <a:xfrm>
            <a:off x="7931160" y="5732640"/>
            <a:ext cx="817560" cy="982440"/>
          </a:xfrm>
          <a:prstGeom prst="rect">
            <a:avLst/>
          </a:prstGeom>
          <a:ln w="0">
            <a:noFill/>
          </a:ln>
        </p:spPr>
      </p:pic>
      <p:sp>
        <p:nvSpPr>
          <p:cNvPr id="413" name="Espace réservé du contenu 2"/>
          <p:cNvSpPr/>
          <p:nvPr/>
        </p:nvSpPr>
        <p:spPr>
          <a:xfrm>
            <a:off x="1116000" y="1125360"/>
            <a:ext cx="568800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D’UN MONDE DE BIDONVILLES À UN MONDE DE SOLUTIO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Gill Sans MT"/>
              </a:rPr>
              <a:t>UNE CONTRIBUTION AU 6</a:t>
            </a:r>
            <a:r>
              <a:rPr b="0" lang="fr-FR" sz="1700" spc="-1" strike="noStrike" baseline="30000">
                <a:solidFill>
                  <a:srgbClr val="000000"/>
                </a:solidFill>
                <a:latin typeface="Gill Sans MT"/>
              </a:rPr>
              <a:t>ÈME</a:t>
            </a:r>
            <a:r>
              <a:rPr b="0" lang="fr-FR" sz="1700" spc="-1" strike="noStrike">
                <a:solidFill>
                  <a:srgbClr val="000000"/>
                </a:solidFill>
                <a:latin typeface="Gill Sans MT"/>
              </a:rPr>
              <a:t> FORUM MONDIAL DE L’EAU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464653"/>
              </a:solidFill>
              <a:latin typeface="Arial"/>
              <a:ea typeface="Arial"/>
            </a:endParaRPr>
          </a:p>
        </p:txBody>
      </p:sp>
      <p:sp>
        <p:nvSpPr>
          <p:cNvPr id="415" name="Espace réservé du numéro de diapositive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F97E2-11B0-4668-9CD9-37BF2EA4CBA8}" type="slidenum">
              <a:rPr b="0" lang="fr-BE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" name="Rectangle 2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26bc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7" name="Ellipse 11"/>
          <p:cNvSpPr/>
          <p:nvPr/>
        </p:nvSpPr>
        <p:spPr>
          <a:xfrm>
            <a:off x="-181080" y="549360"/>
            <a:ext cx="9506160" cy="934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8" name="Connecteur droit 13"/>
          <p:cNvSpPr/>
          <p:nvPr/>
        </p:nvSpPr>
        <p:spPr>
          <a:xfrm>
            <a:off x="1476360" y="2276640"/>
            <a:ext cx="7199280" cy="0"/>
          </a:xfrm>
          <a:prstGeom prst="line">
            <a:avLst/>
          </a:prstGeom>
          <a:ln w="936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19" name="Picture 3" descr="C:\Users\Assoprojection JHH\Dropbox\Projection\Eléments graphiques\LOGO PROJ HD.png"/>
          <p:cNvPicPr/>
          <p:nvPr/>
        </p:nvPicPr>
        <p:blipFill>
          <a:blip r:embed="rId1"/>
          <a:stretch/>
        </p:blipFill>
        <p:spPr>
          <a:xfrm>
            <a:off x="6948360" y="809640"/>
            <a:ext cx="1727280" cy="139860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1" descr=""/>
          <p:cNvPicPr/>
          <p:nvPr/>
        </p:nvPicPr>
        <p:blipFill>
          <a:blip r:embed="rId2"/>
          <a:stretch/>
        </p:blipFill>
        <p:spPr>
          <a:xfrm>
            <a:off x="395280" y="981000"/>
            <a:ext cx="961920" cy="1467000"/>
          </a:xfrm>
          <a:prstGeom prst="rect">
            <a:avLst/>
          </a:prstGeom>
          <a:ln w="0">
            <a:noFill/>
          </a:ln>
        </p:spPr>
      </p:pic>
      <p:sp>
        <p:nvSpPr>
          <p:cNvPr id="421" name="Rectangle 12"/>
          <p:cNvSpPr/>
          <p:nvPr/>
        </p:nvSpPr>
        <p:spPr>
          <a:xfrm>
            <a:off x="468360" y="2378160"/>
            <a:ext cx="8675640" cy="36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7f7f7f"/>
                </a:solidFill>
                <a:latin typeface="Gill Sans MT"/>
              </a:rPr>
              <a:t>Une offre spécifique J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7f7f7f"/>
                </a:solidFill>
                <a:latin typeface="Gill Sans MT"/>
              </a:rPr>
              <a:t>pour leur donner de la visibilité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Devenez rédacteur de la newsletter officielle du Forum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6a5650"/>
                </a:solidFill>
                <a:latin typeface="Gill Sans MT"/>
              </a:rPr>
              <a:t>Entre 25 et 40 jeunes professionnels du monde entie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6a5650"/>
                </a:solidFill>
                <a:latin typeface="Gill Sans MT"/>
              </a:rPr>
              <a:t>Transport et séjour intégralement pris en charg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Gill Sans MT"/>
              </a:rPr>
              <a:t>Réponse avant le 22 janvier (CV+présentation en anglais) à 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b292ca"/>
                </a:solidFill>
                <a:uFillTx/>
                <a:latin typeface="Gill Sans MT"/>
                <a:hlinkClick r:id="rId3"/>
              </a:rPr>
              <a:t>marseille2012@reseauprojection.or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buClr>
                <a:srgbClr val="6a56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2" name="TextBox 14"/>
          <p:cNvSpPr/>
          <p:nvPr/>
        </p:nvSpPr>
        <p:spPr>
          <a:xfrm>
            <a:off x="4413600" y="638172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Gill Sans MT"/>
              </a:rPr>
              <a:t>Journée d’échanges du 19 janvier 2012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23" name="Picture 2" descr="C:\Users\Assoprojection JHH\Desktop\projection perso\LOGO FME grand.jpg"/>
          <p:cNvPicPr/>
          <p:nvPr/>
        </p:nvPicPr>
        <p:blipFill>
          <a:blip r:embed="rId4"/>
          <a:stretch/>
        </p:blipFill>
        <p:spPr>
          <a:xfrm>
            <a:off x="7931160" y="5732640"/>
            <a:ext cx="817560" cy="982440"/>
          </a:xfrm>
          <a:prstGeom prst="rect">
            <a:avLst/>
          </a:prstGeom>
          <a:ln w="0">
            <a:noFill/>
          </a:ln>
        </p:spPr>
      </p:pic>
      <p:sp>
        <p:nvSpPr>
          <p:cNvPr id="424" name="Espace réservé du contenu 2"/>
          <p:cNvSpPr/>
          <p:nvPr/>
        </p:nvSpPr>
        <p:spPr>
          <a:xfrm>
            <a:off x="1116000" y="1125360"/>
            <a:ext cx="568800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D’UN MONDE DE BIDONVILLES À UN MONDE DE SOLUTIO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Gill Sans MT"/>
              </a:rPr>
              <a:t>UNE CONTRIBUTION AU 6</a:t>
            </a:r>
            <a:r>
              <a:rPr b="0" lang="fr-FR" sz="1700" spc="-1" strike="noStrike" baseline="30000">
                <a:solidFill>
                  <a:srgbClr val="000000"/>
                </a:solidFill>
                <a:latin typeface="Gill Sans MT"/>
              </a:rPr>
              <a:t>ÈME</a:t>
            </a:r>
            <a:r>
              <a:rPr b="0" lang="fr-FR" sz="1700" spc="-1" strike="noStrike">
                <a:solidFill>
                  <a:srgbClr val="000000"/>
                </a:solidFill>
                <a:latin typeface="Gill Sans MT"/>
              </a:rPr>
              <a:t> FORUM MONDIAL DE L’EAU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464653"/>
              </a:solidFill>
              <a:latin typeface="Arial"/>
              <a:ea typeface="Arial"/>
            </a:endParaRPr>
          </a:p>
        </p:txBody>
      </p:sp>
      <p:sp>
        <p:nvSpPr>
          <p:cNvPr id="426" name="Espace réservé du numéro de diapositive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25F32-3723-4E2B-8AF9-69CB26EFAC78}" type="slidenum">
              <a:rPr b="0" lang="fr-BE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7" name="Rectangle 2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26bc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8" name="Ellipse 11"/>
          <p:cNvSpPr/>
          <p:nvPr/>
        </p:nvSpPr>
        <p:spPr>
          <a:xfrm>
            <a:off x="-181080" y="549360"/>
            <a:ext cx="9506160" cy="934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9" name="Connecteur droit 13"/>
          <p:cNvSpPr/>
          <p:nvPr/>
        </p:nvSpPr>
        <p:spPr>
          <a:xfrm>
            <a:off x="1476360" y="2276640"/>
            <a:ext cx="7199280" cy="0"/>
          </a:xfrm>
          <a:prstGeom prst="line">
            <a:avLst/>
          </a:prstGeom>
          <a:ln w="936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30" name="Picture 3" descr="C:\Users\Assoprojection JHH\Dropbox\Projection\Eléments graphiques\LOGO PROJ HD.png"/>
          <p:cNvPicPr/>
          <p:nvPr/>
        </p:nvPicPr>
        <p:blipFill>
          <a:blip r:embed="rId1"/>
          <a:stretch/>
        </p:blipFill>
        <p:spPr>
          <a:xfrm>
            <a:off x="6948360" y="809640"/>
            <a:ext cx="1727280" cy="139860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1" descr=""/>
          <p:cNvPicPr/>
          <p:nvPr/>
        </p:nvPicPr>
        <p:blipFill>
          <a:blip r:embed="rId2"/>
          <a:stretch/>
        </p:blipFill>
        <p:spPr>
          <a:xfrm>
            <a:off x="395280" y="981000"/>
            <a:ext cx="961920" cy="1467000"/>
          </a:xfrm>
          <a:prstGeom prst="rect">
            <a:avLst/>
          </a:prstGeom>
          <a:ln w="0">
            <a:noFill/>
          </a:ln>
        </p:spPr>
      </p:pic>
      <p:sp>
        <p:nvSpPr>
          <p:cNvPr id="432" name="Rectangle 12"/>
          <p:cNvSpPr/>
          <p:nvPr/>
        </p:nvSpPr>
        <p:spPr>
          <a:xfrm>
            <a:off x="468360" y="2378160"/>
            <a:ext cx="867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7f7f7f"/>
                </a:solidFill>
                <a:latin typeface="Gill Sans MT"/>
              </a:rPr>
              <a:t>Une offre spécifique J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7f7f7f"/>
                </a:solidFill>
                <a:latin typeface="Gill Sans MT"/>
              </a:rPr>
              <a:t>pour contribuer aux débats</a:t>
            </a:r>
            <a:r>
              <a:rPr b="0" lang="fr-FR" sz="2400" spc="-1" strike="noStrike">
                <a:solidFill>
                  <a:srgbClr val="7f7f7f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3" name="TextBox 14"/>
          <p:cNvSpPr/>
          <p:nvPr/>
        </p:nvSpPr>
        <p:spPr>
          <a:xfrm>
            <a:off x="4413600" y="638172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Gill Sans MT"/>
              </a:rPr>
              <a:t>Journée d’échanges du 19 janvier 2012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4" name="Espace réservé du contenu 2"/>
          <p:cNvSpPr/>
          <p:nvPr/>
        </p:nvSpPr>
        <p:spPr>
          <a:xfrm>
            <a:off x="1116000" y="1125360"/>
            <a:ext cx="568800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D’UN MONDE DE BIDONVILLES À UN MONDE DE SOLUTIO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Gill Sans MT"/>
              </a:rPr>
              <a:t>UNE CONTRIBUTION AU 6</a:t>
            </a:r>
            <a:r>
              <a:rPr b="0" lang="fr-FR" sz="1700" spc="-1" strike="noStrike" baseline="30000">
                <a:solidFill>
                  <a:srgbClr val="000000"/>
                </a:solidFill>
                <a:latin typeface="Gill Sans MT"/>
              </a:rPr>
              <a:t>ÈME</a:t>
            </a:r>
            <a:r>
              <a:rPr b="0" lang="fr-FR" sz="1700" spc="-1" strike="noStrike">
                <a:solidFill>
                  <a:srgbClr val="000000"/>
                </a:solidFill>
                <a:latin typeface="Gill Sans MT"/>
              </a:rPr>
              <a:t> FORUM MONDIAL DE L’EAU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35" name="Picture 3" descr=""/>
          <p:cNvPicPr/>
          <p:nvPr/>
        </p:nvPicPr>
        <p:blipFill>
          <a:blip r:embed="rId3"/>
          <a:srcRect l="0" t="2520" r="0" b="0"/>
          <a:stretch/>
        </p:blipFill>
        <p:spPr>
          <a:xfrm>
            <a:off x="611280" y="3429000"/>
            <a:ext cx="4357440" cy="278748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" descr=""/>
          <p:cNvPicPr/>
          <p:nvPr/>
        </p:nvPicPr>
        <p:blipFill>
          <a:blip r:embed="rId4"/>
          <a:stretch/>
        </p:blipFill>
        <p:spPr>
          <a:xfrm>
            <a:off x="6227640" y="4005360"/>
            <a:ext cx="2305080" cy="1841400"/>
          </a:xfrm>
          <a:prstGeom prst="rect">
            <a:avLst/>
          </a:prstGeom>
          <a:ln w="0">
            <a:noFill/>
          </a:ln>
        </p:spPr>
      </p:pic>
      <p:sp>
        <p:nvSpPr>
          <p:cNvPr id="437" name="Rectangle 15"/>
          <p:cNvSpPr/>
          <p:nvPr/>
        </p:nvSpPr>
        <p:spPr>
          <a:xfrm>
            <a:off x="2987640" y="3500280"/>
            <a:ext cx="867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Gill Sans MT"/>
              </a:rPr>
              <a:t>Focus Bidonvill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Straight Connector 17"/>
          <p:cNvSpPr/>
          <p:nvPr/>
        </p:nvSpPr>
        <p:spPr>
          <a:xfrm>
            <a:off x="2843280" y="4941720"/>
            <a:ext cx="32414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9" name="Oval 18"/>
          <p:cNvSpPr/>
          <p:nvPr/>
        </p:nvSpPr>
        <p:spPr>
          <a:xfrm>
            <a:off x="2627280" y="4869000"/>
            <a:ext cx="216000" cy="144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0" name="Rounded Rectangle 19"/>
          <p:cNvSpPr/>
          <p:nvPr/>
        </p:nvSpPr>
        <p:spPr>
          <a:xfrm>
            <a:off x="6084720" y="3429000"/>
            <a:ext cx="2590920" cy="2808360"/>
          </a:xfrm>
          <a:custGeom>
            <a:avLst/>
            <a:gdLst>
              <a:gd name="textAreaLeft" fmla="*/ 126360 w 2590920"/>
              <a:gd name="textAreaRight" fmla="*/ 2464560 w 2590920"/>
              <a:gd name="textAreaTop" fmla="*/ 126360 h 2808360"/>
              <a:gd name="textAreaBottom" fmla="*/ 2682000 h 2808360"/>
            </a:gdLst>
            <a:ahLst/>
            <a:rect l="textAreaLeft" t="textAreaTop" r="textAreaRight" b="textAreaBottom"/>
            <a:pathLst>
              <a:path w="21600" h="23413">
                <a:moveTo>
                  <a:pt x="3600" y="0"/>
                </a:moveTo>
                <a:arcTo wR="3600" hR="3600" stAng="16200000" swAng="-5400000"/>
                <a:lnTo>
                  <a:pt x="0" y="19813"/>
                </a:lnTo>
                <a:arcTo wR="3600" hR="3600" stAng="10800000" swAng="-5400000"/>
                <a:lnTo>
                  <a:pt x="18000" y="2341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41" name="Picture 2" descr="C:\Users\Assoprojection JHH\Desktop\projection perso\LOGO FME grand.jpg"/>
          <p:cNvPicPr/>
          <p:nvPr/>
        </p:nvPicPr>
        <p:blipFill>
          <a:blip r:embed="rId5"/>
          <a:stretch/>
        </p:blipFill>
        <p:spPr>
          <a:xfrm>
            <a:off x="7931160" y="5732640"/>
            <a:ext cx="817560" cy="9824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464653"/>
              </a:solidFill>
              <a:latin typeface="Arial"/>
              <a:ea typeface="Arial"/>
            </a:endParaRPr>
          </a:p>
        </p:txBody>
      </p:sp>
      <p:sp>
        <p:nvSpPr>
          <p:cNvPr id="443" name="Espace réservé du numéro de diapositive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B4B02-288F-4F10-9B75-D6899C82EC97}" type="slidenum">
              <a:rPr b="0" lang="fr-BE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4" name="Rectangle 2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26bc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5" name="Ellipse 11"/>
          <p:cNvSpPr/>
          <p:nvPr/>
        </p:nvSpPr>
        <p:spPr>
          <a:xfrm>
            <a:off x="-181080" y="549360"/>
            <a:ext cx="9506160" cy="934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6" name="Connecteur droit 13"/>
          <p:cNvSpPr/>
          <p:nvPr/>
        </p:nvSpPr>
        <p:spPr>
          <a:xfrm>
            <a:off x="1476360" y="2276640"/>
            <a:ext cx="7199280" cy="0"/>
          </a:xfrm>
          <a:prstGeom prst="line">
            <a:avLst/>
          </a:prstGeom>
          <a:ln w="936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47" name="Picture 3" descr="C:\Users\Assoprojection JHH\Dropbox\Projection\Eléments graphiques\LOGO PROJ HD.png"/>
          <p:cNvPicPr/>
          <p:nvPr/>
        </p:nvPicPr>
        <p:blipFill>
          <a:blip r:embed="rId1"/>
          <a:stretch/>
        </p:blipFill>
        <p:spPr>
          <a:xfrm>
            <a:off x="6948360" y="809640"/>
            <a:ext cx="1727280" cy="139860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1" descr=""/>
          <p:cNvPicPr/>
          <p:nvPr/>
        </p:nvPicPr>
        <p:blipFill>
          <a:blip r:embed="rId2"/>
          <a:stretch/>
        </p:blipFill>
        <p:spPr>
          <a:xfrm>
            <a:off x="395280" y="981000"/>
            <a:ext cx="961920" cy="1467000"/>
          </a:xfrm>
          <a:prstGeom prst="rect">
            <a:avLst/>
          </a:prstGeom>
          <a:ln w="0">
            <a:noFill/>
          </a:ln>
        </p:spPr>
      </p:pic>
      <p:sp>
        <p:nvSpPr>
          <p:cNvPr id="449" name="Rectangle 12"/>
          <p:cNvSpPr/>
          <p:nvPr/>
        </p:nvSpPr>
        <p:spPr>
          <a:xfrm>
            <a:off x="755640" y="2338560"/>
            <a:ext cx="7993080" cy="49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7f7f7f"/>
                </a:solidFill>
                <a:latin typeface="Gill Sans MT"/>
              </a:rPr>
              <a:t>Le Proje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fr-FR" sz="2400" spc="-1" strike="noStrike" u="sng">
                <a:solidFill>
                  <a:srgbClr val="000000"/>
                </a:solidFill>
                <a:uFillTx/>
                <a:latin typeface="Gill Sans MT"/>
              </a:rPr>
              <a:t>Objectif</a:t>
            </a: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fr-FR" sz="2200" spc="-1" strike="noStrike">
                <a:solidFill>
                  <a:srgbClr val="000000"/>
                </a:solidFill>
                <a:latin typeface="Gill Sans MT"/>
              </a:rPr>
              <a:t>Porter le sujet des quartiers précaires au cœur du 6</a:t>
            </a:r>
            <a:r>
              <a:rPr b="0" lang="fr-FR" sz="2200" spc="-1" strike="noStrike" baseline="30000">
                <a:solidFill>
                  <a:srgbClr val="000000"/>
                </a:solidFill>
                <a:latin typeface="Gill Sans MT"/>
              </a:rPr>
              <a:t>ème</a:t>
            </a:r>
            <a:r>
              <a:rPr b="0" lang="fr-FR" sz="2200" spc="-1" strike="noStrike">
                <a:solidFill>
                  <a:srgbClr val="000000"/>
                </a:solidFill>
                <a:latin typeface="Gill Sans MT"/>
              </a:rPr>
              <a:t> FM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000000"/>
                </a:solidFill>
                <a:uFillTx/>
                <a:latin typeface="Gill Sans MT"/>
              </a:rPr>
              <a:t> </a:t>
            </a:r>
            <a:r>
              <a:rPr b="0" lang="fr-FR" sz="2400" spc="-1" strike="noStrike" u="sng">
                <a:solidFill>
                  <a:srgbClr val="000000"/>
                </a:solidFill>
                <a:uFillTx/>
                <a:latin typeface="Gill Sans MT"/>
              </a:rPr>
              <a:t>Problématique</a:t>
            </a: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 : </a:t>
            </a:r>
            <a:r>
              <a:rPr b="0" i="1" lang="fr-FR" sz="2200" spc="-1" strike="noStrike">
                <a:solidFill>
                  <a:srgbClr val="000000"/>
                </a:solidFill>
                <a:latin typeface="Gill Sans MT"/>
              </a:rPr>
              <a:t>Avant que le bidonville ne devienne une référence urbaine, comment l’accès aux services de base peut-il être un facteur levier de développement local de ces quartiers, pour une intégration à terme dans l’espace urbain en tant que quartier salubre ?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0" name="TextBox 14"/>
          <p:cNvSpPr/>
          <p:nvPr/>
        </p:nvSpPr>
        <p:spPr>
          <a:xfrm>
            <a:off x="4413600" y="638172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Gill Sans MT"/>
              </a:rPr>
              <a:t>Journée d’échanges du 19 janvier 2012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51" name="Picture 2" descr="C:\Users\Assoprojection JHH\Desktop\projection perso\LOGO FME grand.jpg"/>
          <p:cNvPicPr/>
          <p:nvPr/>
        </p:nvPicPr>
        <p:blipFill>
          <a:blip r:embed="rId3"/>
          <a:stretch/>
        </p:blipFill>
        <p:spPr>
          <a:xfrm>
            <a:off x="7931160" y="5732640"/>
            <a:ext cx="817560" cy="982440"/>
          </a:xfrm>
          <a:prstGeom prst="rect">
            <a:avLst/>
          </a:prstGeom>
          <a:ln w="0">
            <a:noFill/>
          </a:ln>
        </p:spPr>
      </p:pic>
      <p:sp>
        <p:nvSpPr>
          <p:cNvPr id="452" name="Espace réservé du contenu 2"/>
          <p:cNvSpPr/>
          <p:nvPr/>
        </p:nvSpPr>
        <p:spPr>
          <a:xfrm>
            <a:off x="1116000" y="1125360"/>
            <a:ext cx="568800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D’UN MONDE DE BIDONVILLES À UN MONDE DE SOLUTIO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Gill Sans MT"/>
              </a:rPr>
              <a:t>UNE CONTRIBUTION AU 6</a:t>
            </a:r>
            <a:r>
              <a:rPr b="0" lang="fr-FR" sz="1700" spc="-1" strike="noStrike" baseline="30000">
                <a:solidFill>
                  <a:srgbClr val="000000"/>
                </a:solidFill>
                <a:latin typeface="Gill Sans MT"/>
              </a:rPr>
              <a:t>ÈME</a:t>
            </a:r>
            <a:r>
              <a:rPr b="0" lang="fr-FR" sz="1700" spc="-1" strike="noStrike">
                <a:solidFill>
                  <a:srgbClr val="000000"/>
                </a:solidFill>
                <a:latin typeface="Gill Sans MT"/>
              </a:rPr>
              <a:t> FORUM MONDIAL DE L’EAU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464653"/>
              </a:solidFill>
              <a:latin typeface="Arial"/>
              <a:ea typeface="Arial"/>
            </a:endParaRPr>
          </a:p>
        </p:txBody>
      </p:sp>
      <p:sp>
        <p:nvSpPr>
          <p:cNvPr id="454" name="Espace réservé du numéro de diapositive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20C91-A1EE-4B48-B88F-F1FE7A90CF7D}" type="slidenum">
              <a:rPr b="0" lang="fr-BE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5" name="Rectangle 2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26bc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6" name="Ellipse 11"/>
          <p:cNvSpPr/>
          <p:nvPr/>
        </p:nvSpPr>
        <p:spPr>
          <a:xfrm>
            <a:off x="-181080" y="549360"/>
            <a:ext cx="9506160" cy="934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7" name="Connecteur droit 13"/>
          <p:cNvSpPr/>
          <p:nvPr/>
        </p:nvSpPr>
        <p:spPr>
          <a:xfrm>
            <a:off x="1476360" y="2276640"/>
            <a:ext cx="7199280" cy="0"/>
          </a:xfrm>
          <a:prstGeom prst="line">
            <a:avLst/>
          </a:prstGeom>
          <a:ln w="936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58" name="Picture 3" descr="C:\Users\Assoprojection JHH\Dropbox\Projection\Eléments graphiques\LOGO PROJ HD.png"/>
          <p:cNvPicPr/>
          <p:nvPr/>
        </p:nvPicPr>
        <p:blipFill>
          <a:blip r:embed="rId1"/>
          <a:stretch/>
        </p:blipFill>
        <p:spPr>
          <a:xfrm>
            <a:off x="6948360" y="809640"/>
            <a:ext cx="1727280" cy="139860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1" descr=""/>
          <p:cNvPicPr/>
          <p:nvPr/>
        </p:nvPicPr>
        <p:blipFill>
          <a:blip r:embed="rId2"/>
          <a:stretch/>
        </p:blipFill>
        <p:spPr>
          <a:xfrm>
            <a:off x="395280" y="981000"/>
            <a:ext cx="961920" cy="1467000"/>
          </a:xfrm>
          <a:prstGeom prst="rect">
            <a:avLst/>
          </a:prstGeom>
          <a:ln w="0">
            <a:noFill/>
          </a:ln>
        </p:spPr>
      </p:pic>
      <p:sp>
        <p:nvSpPr>
          <p:cNvPr id="460" name="Rectangle 12"/>
          <p:cNvSpPr/>
          <p:nvPr/>
        </p:nvSpPr>
        <p:spPr>
          <a:xfrm>
            <a:off x="395280" y="2349360"/>
            <a:ext cx="8532720" cy="47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7f7f7f"/>
                </a:solidFill>
                <a:latin typeface="Gill Sans MT"/>
              </a:rPr>
              <a:t>Un travail collaboratif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Gill Sans MT"/>
              </a:rPr>
              <a:t>Un groupe de travail de JP pertinents sur la question des quartiers précaire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Gill Sans MT"/>
              </a:rPr>
              <a:t>Un comité de pilotage et des partenariats techniques (AFD, GRET, UN-Habitat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Gill Sans MT"/>
              </a:rPr>
              <a:t>Des ateliers JP mis en place dans le cadre des Forum Nationaux de l’Eau et de l’Assainissement d’Afrique de l’Ouest pour alimenter le fond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Gill Sans MT"/>
              </a:rPr>
              <a:t>Un appel international à solutions pour l’eau et à l’assainissement dans les bidonvilles pour encourager la participation de tou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1" name="TextBox 14"/>
          <p:cNvSpPr/>
          <p:nvPr/>
        </p:nvSpPr>
        <p:spPr>
          <a:xfrm>
            <a:off x="4413600" y="638172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Gill Sans MT"/>
              </a:rPr>
              <a:t>Journée d’échanges du 19 janvier 2012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62" name="Picture 2" descr="C:\Users\Assoprojection JHH\Desktop\projection perso\LOGO FME grand.jpg"/>
          <p:cNvPicPr/>
          <p:nvPr/>
        </p:nvPicPr>
        <p:blipFill>
          <a:blip r:embed="rId3"/>
          <a:stretch/>
        </p:blipFill>
        <p:spPr>
          <a:xfrm>
            <a:off x="7931160" y="5732640"/>
            <a:ext cx="817560" cy="982440"/>
          </a:xfrm>
          <a:prstGeom prst="rect">
            <a:avLst/>
          </a:prstGeom>
          <a:ln w="0">
            <a:noFill/>
          </a:ln>
        </p:spPr>
      </p:pic>
      <p:sp>
        <p:nvSpPr>
          <p:cNvPr id="463" name="Espace réservé du contenu 2"/>
          <p:cNvSpPr/>
          <p:nvPr/>
        </p:nvSpPr>
        <p:spPr>
          <a:xfrm>
            <a:off x="1116000" y="1125360"/>
            <a:ext cx="568800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D’UN MONDE DE BIDONVILLES À UN MONDE DE SOLUTIO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Gill Sans MT"/>
              </a:rPr>
              <a:t>UNE CONTRIBUTION AU 6</a:t>
            </a:r>
            <a:r>
              <a:rPr b="0" lang="fr-FR" sz="1700" spc="-1" strike="noStrike" baseline="30000">
                <a:solidFill>
                  <a:srgbClr val="000000"/>
                </a:solidFill>
                <a:latin typeface="Gill Sans MT"/>
              </a:rPr>
              <a:t>ÈME</a:t>
            </a:r>
            <a:r>
              <a:rPr b="0" lang="fr-FR" sz="1700" spc="-1" strike="noStrike">
                <a:solidFill>
                  <a:srgbClr val="000000"/>
                </a:solidFill>
                <a:latin typeface="Gill Sans MT"/>
              </a:rPr>
              <a:t> FORUM MONDIAL DE L’EAU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3T08:12:40Z</dcterms:created>
  <dc:creator>Projection Défis Sud</dc:creator>
  <dc:description/>
  <dc:language>en-US</dc:language>
  <cp:lastModifiedBy>Projection</cp:lastModifiedBy>
  <dcterms:modified xsi:type="dcterms:W3CDTF">2012-02-02T18:24:51Z</dcterms:modified>
  <cp:revision>188</cp:revision>
  <dc:subject/>
  <dc:title>Diapositive 1</dc:title>
</cp:coreProperties>
</file>